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27.jpeg" ContentType="image/jpeg"/>
  <Override PartName="/ppt/media/image52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59.png" ContentType="image/png"/>
  <Override PartName="/ppt/media/image24.jpeg" ContentType="image/jpeg"/>
  <Override PartName="/ppt/media/image60.png" ContentType="image/png"/>
  <Override PartName="/ppt/media/image6.jpeg" ContentType="image/jpeg"/>
  <Override PartName="/ppt/media/image29.png" ContentType="image/png"/>
  <Override PartName="/ppt/media/image31.png" ContentType="image/png"/>
  <Override PartName="/ppt/media/image2.jpeg" ContentType="image/jpeg"/>
  <Override PartName="/ppt/media/image57.png" ContentType="image/png"/>
  <Override PartName="/ppt/media/image20.png" ContentType="image/png"/>
  <Override PartName="/ppt/media/image42.png" ContentType="image/png"/>
  <Override PartName="/ppt/media/image26.jpeg" ContentType="image/jpeg"/>
  <Override PartName="/ppt/media/image25.jpeg" ContentType="image/jpeg"/>
  <Override PartName="/ppt/media/image32.png" ContentType="image/png"/>
  <Override PartName="/ppt/media/image55.wmf" ContentType="image/x-wmf"/>
  <Override PartName="/ppt/media/image18.jpeg" ContentType="image/jpeg"/>
  <Override PartName="/ppt/media/image3.png" ContentType="image/png"/>
  <Override PartName="/ppt/media/image15.png" ContentType="image/png"/>
  <Override PartName="/ppt/media/image21.png" ContentType="image/png"/>
  <Override PartName="/ppt/media/image28.jpeg" ContentType="image/jpeg"/>
  <Override PartName="/ppt/media/image10.png" ContentType="image/png"/>
  <Override PartName="/ppt/media/image47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1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3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30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7A4D-22E8-40E3-8514-9FCB8F3EC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8063-B615-40E1-A028-213A12147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DA6E-15E9-493A-9F25-07C139D38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7B78-2E74-47FB-BDE4-B08A10EDB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6CD2-B5A1-44D9-8195-E2789225006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520A-3FDC-41CF-BE49-5D71A2D86F3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31C7-1CE1-4673-A645-191873A4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10E6-7C3C-499F-9101-908A7649638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517A-7B0E-43C8-8D21-4B5128DE9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er, class 4 delete, click one after each other, maybe delete counts, name total =&gt; P-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al slide for published consens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44F7-5998-4A9C-948E-457734AE1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088D-B6FE-4499-8938-6A7BDE0AB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CB3E-59CD-4255-9E78-A55372BC5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99E7-37CD-4B3A-BD80-0FF7B90CD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ECAB-D3AC-44DF-8459-4DDBEC4502C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B86A-2943-4BFB-906F-96B166503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973-894F-433D-BF3A-FCFFFB41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377-8BDE-4746-950C-7AA599A8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FCE-B21E-41E9-AB5E-0817632B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212-F18E-4B8A-AA99-00DA3196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6B16-3027-48D7-B251-16E74C53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6763-802E-43B2-B5A2-6B832B36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439D-6ED6-4878-8B3F-3883F0B9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79CB-EA61-42A1-8CE2-51A3268E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E9BF-3ABD-4A89-84E2-2DB79918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74A0-8A02-44AD-943D-B7966E1A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5062-5183-447E-8CF4-969BF20D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60F-B209-4DF8-B6C3-D7C126E2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DC9-851D-4E6A-A59B-229B2D9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18F9-4A80-4FE7-A760-BB51A72B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D989-2531-45A3-A5FA-0494E744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2A5F-0E22-4EDC-9A13-0ED844FB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0AD3-C1CB-421B-8FB7-D2942A5F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27A-962C-4E3A-924C-C8AF8A95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E49-1B9F-4128-BDA0-3F942374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0E2-B2E6-4B46-9675-9A3AFEE0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DC8-263C-4C85-B1D6-3FD38474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5C1-E0CF-4FB4-9A20-4213A06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9B9-B640-48AB-B17A-EF7C2D54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4D4-FE6B-4DA3-AF09-509404AC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FF11-DE8A-4924-9D7A-BE2723B532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5F61-7F66-47FD-90FD-EE23E9529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163D-B559-4DD6-9446-3A3760609E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3F4-312B-45F6-9A47-DC0084E78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sciencedirect.com/science?_ob=PublicationURL&amp;_tockey=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80480" y="2516040"/>
            <a:ext cx="76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Sample preparation and 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Calibri"/>
              </a:rPr>
              <a:t>strategies in phosphoprote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3145680" y="5354640"/>
            <a:ext cx="27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oris M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č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roteome Center Tüb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75280" y="395280"/>
            <a:ext cx="243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xQuant Summer 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rtinsried, June 26,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CDB7-75E6-432E-89DA-36401E415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9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95280" y="233280"/>
            <a:ext cx="4786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nd stage of enrich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IMAC or Ti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 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755640" y="1751040"/>
            <a:ext cx="7626240" cy="3981600"/>
            <a:chOff x="755640" y="1751040"/>
            <a:chExt cx="7626240" cy="398160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tretch/>
          </p:blipFill>
          <p:spPr>
            <a:xfrm>
              <a:off x="761760" y="1751040"/>
              <a:ext cx="7620120" cy="398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2"/>
            <a:stretch/>
          </p:blipFill>
          <p:spPr>
            <a:xfrm>
              <a:off x="755640" y="5444640"/>
              <a:ext cx="217584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A56-DD64-4971-9581-B00D63CB0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6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traight Connector 2"/>
          <p:cNvSpPr/>
          <p:nvPr/>
        </p:nvSpPr>
        <p:spPr>
          <a:xfrm>
            <a:off x="285840" y="274968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5"/>
          <p:cNvSpPr/>
          <p:nvPr/>
        </p:nvSpPr>
        <p:spPr>
          <a:xfrm>
            <a:off x="4143240" y="274968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6"/>
          <p:cNvSpPr/>
          <p:nvPr/>
        </p:nvSpPr>
        <p:spPr>
          <a:xfrm>
            <a:off x="285840" y="424980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7"/>
          <p:cNvSpPr/>
          <p:nvPr/>
        </p:nvSpPr>
        <p:spPr>
          <a:xfrm>
            <a:off x="285840" y="5703840"/>
            <a:ext cx="1643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3"/>
          <p:cNvSpPr/>
          <p:nvPr/>
        </p:nvSpPr>
        <p:spPr>
          <a:xfrm flipV="1">
            <a:off x="4572000" y="246384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4"/>
          <p:cNvSpPr/>
          <p:nvPr/>
        </p:nvSpPr>
        <p:spPr>
          <a:xfrm>
            <a:off x="4143240" y="424980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15"/>
          <p:cNvSpPr/>
          <p:nvPr/>
        </p:nvSpPr>
        <p:spPr>
          <a:xfrm flipV="1">
            <a:off x="4572000" y="396396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6"/>
          <p:cNvSpPr/>
          <p:nvPr/>
        </p:nvSpPr>
        <p:spPr>
          <a:xfrm>
            <a:off x="4143240" y="5703840"/>
            <a:ext cx="1643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7"/>
          <p:cNvSpPr/>
          <p:nvPr/>
        </p:nvSpPr>
        <p:spPr>
          <a:xfrm flipV="1">
            <a:off x="4572000" y="541980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8" descr=""/>
          <p:cNvPicPr/>
          <p:nvPr/>
        </p:nvPicPr>
        <p:blipFill>
          <a:blip r:embed="rId1"/>
          <a:stretch/>
        </p:blipFill>
        <p:spPr>
          <a:xfrm>
            <a:off x="5929200" y="5178600"/>
            <a:ext cx="1449360" cy="1322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9" descr=""/>
          <p:cNvPicPr/>
          <p:nvPr/>
        </p:nvPicPr>
        <p:blipFill>
          <a:blip r:embed="rId2"/>
          <a:stretch/>
        </p:blipFill>
        <p:spPr>
          <a:xfrm>
            <a:off x="5929200" y="3678120"/>
            <a:ext cx="1443240" cy="131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1" descr=""/>
          <p:cNvPicPr/>
          <p:nvPr/>
        </p:nvPicPr>
        <p:blipFill>
          <a:blip r:embed="rId3"/>
          <a:stretch/>
        </p:blipFill>
        <p:spPr>
          <a:xfrm>
            <a:off x="2071800" y="2106720"/>
            <a:ext cx="1454040" cy="13255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1" descr=""/>
          <p:cNvPicPr/>
          <p:nvPr/>
        </p:nvPicPr>
        <p:blipFill>
          <a:blip r:embed="rId4"/>
          <a:stretch/>
        </p:blipFill>
        <p:spPr>
          <a:xfrm>
            <a:off x="5929200" y="2106720"/>
            <a:ext cx="1454400" cy="1325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1" descr=""/>
          <p:cNvPicPr/>
          <p:nvPr/>
        </p:nvPicPr>
        <p:blipFill>
          <a:blip r:embed="rId5"/>
          <a:stretch/>
        </p:blipFill>
        <p:spPr>
          <a:xfrm>
            <a:off x="2071800" y="3606840"/>
            <a:ext cx="1454040" cy="1325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6"/>
          <a:stretch/>
        </p:blipFill>
        <p:spPr>
          <a:xfrm>
            <a:off x="2071800" y="5133960"/>
            <a:ext cx="1454040" cy="13255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4"/>
          <p:cNvSpPr/>
          <p:nvPr/>
        </p:nvSpPr>
        <p:spPr>
          <a:xfrm>
            <a:off x="445320" y="13572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modifi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hange in protein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5"/>
          <p:cNvSpPr/>
          <p:nvPr/>
        </p:nvSpPr>
        <p:spPr>
          <a:xfrm>
            <a:off x="4449240" y="135720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ifi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hange in modification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7509600" y="25718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7439760" y="40593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p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7378200" y="5572080"/>
            <a:ext cx="17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wn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9"/>
          <p:cNvSpPr/>
          <p:nvPr/>
        </p:nvSpPr>
        <p:spPr>
          <a:xfrm>
            <a:off x="413640" y="42876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Quantification of PT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2CB3-A308-4426-8F35-65DF57059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7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86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traight Connector 23"/>
          <p:cNvSpPr/>
          <p:nvPr/>
        </p:nvSpPr>
        <p:spPr>
          <a:xfrm>
            <a:off x="285840" y="292896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24"/>
          <p:cNvSpPr/>
          <p:nvPr/>
        </p:nvSpPr>
        <p:spPr>
          <a:xfrm>
            <a:off x="285840" y="4775040"/>
            <a:ext cx="1643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26"/>
          <p:cNvSpPr/>
          <p:nvPr/>
        </p:nvSpPr>
        <p:spPr>
          <a:xfrm>
            <a:off x="4143240" y="2928960"/>
            <a:ext cx="16430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27"/>
          <p:cNvSpPr/>
          <p:nvPr/>
        </p:nvSpPr>
        <p:spPr>
          <a:xfrm flipV="1">
            <a:off x="4572000" y="264312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28"/>
          <p:cNvSpPr/>
          <p:nvPr/>
        </p:nvSpPr>
        <p:spPr>
          <a:xfrm>
            <a:off x="4143240" y="4775040"/>
            <a:ext cx="1643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29"/>
          <p:cNvSpPr/>
          <p:nvPr/>
        </p:nvSpPr>
        <p:spPr>
          <a:xfrm flipV="1">
            <a:off x="4572000" y="4491000"/>
            <a:ext cx="144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8" descr=""/>
          <p:cNvPicPr/>
          <p:nvPr/>
        </p:nvPicPr>
        <p:blipFill>
          <a:blip r:embed="rId1"/>
          <a:stretch/>
        </p:blipFill>
        <p:spPr>
          <a:xfrm>
            <a:off x="5929200" y="4249800"/>
            <a:ext cx="1449360" cy="1322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9" descr=""/>
          <p:cNvPicPr/>
          <p:nvPr/>
        </p:nvPicPr>
        <p:blipFill>
          <a:blip r:embed="rId2"/>
          <a:stretch/>
        </p:blipFill>
        <p:spPr>
          <a:xfrm>
            <a:off x="5929200" y="2357280"/>
            <a:ext cx="1443240" cy="1314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1" descr=""/>
          <p:cNvPicPr/>
          <p:nvPr/>
        </p:nvPicPr>
        <p:blipFill>
          <a:blip r:embed="rId3"/>
          <a:stretch/>
        </p:blipFill>
        <p:spPr>
          <a:xfrm>
            <a:off x="2071800" y="4205160"/>
            <a:ext cx="1454040" cy="13255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36"/>
          <p:cNvSpPr/>
          <p:nvPr/>
        </p:nvSpPr>
        <p:spPr>
          <a:xfrm>
            <a:off x="445320" y="1357200"/>
            <a:ext cx="26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modifi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hange in protein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37"/>
          <p:cNvSpPr/>
          <p:nvPr/>
        </p:nvSpPr>
        <p:spPr>
          <a:xfrm>
            <a:off x="4449240" y="1357200"/>
            <a:ext cx="31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odified pept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change in modification le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38"/>
          <p:cNvSpPr/>
          <p:nvPr/>
        </p:nvSpPr>
        <p:spPr>
          <a:xfrm>
            <a:off x="7509600" y="27860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0"/>
          <p:cNvSpPr/>
          <p:nvPr/>
        </p:nvSpPr>
        <p:spPr>
          <a:xfrm>
            <a:off x="7299000" y="4497480"/>
            <a:ext cx="17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wn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osition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9" descr=""/>
          <p:cNvPicPr/>
          <p:nvPr/>
        </p:nvPicPr>
        <p:blipFill>
          <a:blip r:embed="rId4"/>
          <a:stretch/>
        </p:blipFill>
        <p:spPr>
          <a:xfrm>
            <a:off x="2071800" y="2286000"/>
            <a:ext cx="1442880" cy="1314360"/>
          </a:xfrm>
          <a:prstGeom prst="rect">
            <a:avLst/>
          </a:prstGeom>
          <a:ln w="0">
            <a:noFill/>
          </a:ln>
        </p:spPr>
      </p:pic>
      <p:sp>
        <p:nvSpPr>
          <p:cNvPr id="201" name="Straight Connector 43"/>
          <p:cNvSpPr/>
          <p:nvPr/>
        </p:nvSpPr>
        <p:spPr>
          <a:xfrm flipV="1">
            <a:off x="4723560" y="4494240"/>
            <a:ext cx="180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292D-F48D-471B-853A-0F839C69C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5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0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413640" y="42876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Quantification of PT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Mapkst1"/>
          <p:cNvPicPr/>
          <p:nvPr/>
        </p:nvPicPr>
        <p:blipFill>
          <a:blip r:embed="rId1"/>
          <a:stretch/>
        </p:blipFill>
        <p:spPr>
          <a:xfrm>
            <a:off x="1332000" y="1844640"/>
            <a:ext cx="6419880" cy="3924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481680" y="243000"/>
            <a:ext cx="47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tracellular signaling networ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GFR Signaling Pat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F5BA-BC80-44B5-BEAA-6E8C06C84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1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22000" y="385920"/>
            <a:ext cx="50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Global phosphorylation dyna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rcRect l="0" t="10857" r="0" b="43427"/>
          <a:stretch/>
        </p:blipFill>
        <p:spPr>
          <a:xfrm>
            <a:off x="3203640" y="1257480"/>
            <a:ext cx="5713200" cy="36939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4"/>
          <p:cNvSpPr/>
          <p:nvPr/>
        </p:nvSpPr>
        <p:spPr>
          <a:xfrm>
            <a:off x="-372600" y="3098880"/>
            <a:ext cx="102196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6600 phosphorylation-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from more than 2000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pS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(87%)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/pT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(12%)</a:t>
            </a:r>
            <a:r>
              <a:rPr b="1" lang="en-US" sz="1600" spc="-1" strike="noStrike">
                <a:solidFill>
                  <a:srgbClr val="000000"/>
                </a:solidFill>
                <a:latin typeface="Palatino Linotype"/>
              </a:rPr>
              <a:t>/pY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(1.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www.phosid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Less than 15% regul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by EGF 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Global understanding of how the cell wor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- Systems biology modelling of signaling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Palatino Linotype"/>
              </a:rPr>
              <a:t>Generic approach – can be applied to study any phosphorylation dependent sign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Palatino Linotype"/>
              </a:rPr>
              <a:t>Olsen et al., Cell 2006, </a:t>
            </a:r>
            <a:r>
              <a:rPr b="0" lang="de-DE" sz="1600" spc="-1" strike="noStrike" u="sng">
                <a:solidFill>
                  <a:srgbClr val="0000ff"/>
                </a:solidFill>
                <a:uFillTx/>
                <a:latin typeface="Palatino Linotype"/>
                <a:hlinkClick r:id="rId2"/>
              </a:rPr>
              <a:t>Volume 127, Issue 3</a:t>
            </a:r>
            <a:r>
              <a:rPr b="1" i="1" lang="de-DE" sz="1600" spc="-1" strike="noStrike">
                <a:solidFill>
                  <a:srgbClr val="000000"/>
                </a:solidFill>
                <a:latin typeface="Palatino Linotype"/>
              </a:rPr>
              <a:t> , p. 635-648</a:t>
            </a:r>
            <a:r>
              <a:rPr b="1" i="1" lang="de-DE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65040" y="1754280"/>
            <a:ext cx="2592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Palatino Linotype"/>
              </a:rPr>
              <a:t>The EGF induced phosphorylation signal spreads to many different protein classes within 20 min of st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39040" y="13302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Main conclu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57EB-AA07-442C-A302-9A093DE6F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18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302760" y="1771560"/>
            <a:ext cx="8725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targets of Aurora kinase in </a:t>
            </a:r>
            <a:r>
              <a:rPr b="0" i="1" lang="de-DE" sz="2000" spc="-1" strike="noStrike">
                <a:solidFill>
                  <a:srgbClr val="ff0000"/>
                </a:solidFill>
                <a:latin typeface="Arial"/>
              </a:rPr>
              <a:t>S. pombe 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(with S. Hauf, FMI/M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ch et al. 2011.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cience Signaling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179):r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rgets of Polo and Fin1 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S. pom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with I. Hagan, Paterson Instit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targets of protein kinase D in human cells  (with A. Hausser, Uni Stuttga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anz-Wachtel et al. 2012.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argets of S/T kinases and phosphatases in model bacte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3"/>
          <p:cNvSpPr/>
          <p:nvPr/>
        </p:nvSpPr>
        <p:spPr>
          <a:xfrm>
            <a:off x="414360" y="38412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kinase substrate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2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3"/>
          <p:cNvSpPr/>
          <p:nvPr/>
        </p:nvSpPr>
        <p:spPr>
          <a:xfrm>
            <a:off x="2187720" y="1916280"/>
            <a:ext cx="174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ontrol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4525200" y="1874880"/>
            <a:ext cx="236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Kinase In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200" y="2778120"/>
            <a:ext cx="2827440" cy="151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Picture 4" descr=""/>
          <p:cNvPicPr/>
          <p:nvPr/>
        </p:nvPicPr>
        <p:blipFill>
          <a:blip r:embed="rId2"/>
          <a:stretch/>
        </p:blipFill>
        <p:spPr>
          <a:xfrm>
            <a:off x="5570640" y="2778120"/>
            <a:ext cx="36972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7" name="Group 8"/>
          <p:cNvGrpSpPr/>
          <p:nvPr/>
        </p:nvGrpSpPr>
        <p:grpSpPr>
          <a:xfrm>
            <a:off x="2335320" y="1569960"/>
            <a:ext cx="1535040" cy="320760"/>
            <a:chOff x="2335320" y="1569960"/>
            <a:chExt cx="1535040" cy="320760"/>
          </a:xfrm>
        </p:grpSpPr>
        <p:sp>
          <p:nvSpPr>
            <p:cNvPr id="228" name="Oval 9"/>
            <p:cNvSpPr/>
            <p:nvPr/>
          </p:nvSpPr>
          <p:spPr>
            <a:xfrm>
              <a:off x="2338560" y="1569960"/>
              <a:ext cx="1531800" cy="16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080" bIns="-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0"/>
            <p:cNvSpPr/>
            <p:nvPr/>
          </p:nvSpPr>
          <p:spPr>
            <a:xfrm>
              <a:off x="2338560" y="1730520"/>
              <a:ext cx="1531800" cy="160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>
              <a:off x="2335320" y="166356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2"/>
            <p:cNvSpPr/>
            <p:nvPr/>
          </p:nvSpPr>
          <p:spPr>
            <a:xfrm>
              <a:off x="3870360" y="166356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45"/>
          <p:cNvGrpSpPr/>
          <p:nvPr/>
        </p:nvGrpSpPr>
        <p:grpSpPr>
          <a:xfrm>
            <a:off x="4960800" y="1585800"/>
            <a:ext cx="1535400" cy="320760"/>
            <a:chOff x="4960800" y="1585800"/>
            <a:chExt cx="1535400" cy="320760"/>
          </a:xfrm>
        </p:grpSpPr>
        <p:sp>
          <p:nvSpPr>
            <p:cNvPr id="233" name="Oval 32"/>
            <p:cNvSpPr/>
            <p:nvPr/>
          </p:nvSpPr>
          <p:spPr>
            <a:xfrm>
              <a:off x="4963680" y="1585800"/>
              <a:ext cx="153252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33"/>
            <p:cNvSpPr/>
            <p:nvPr/>
          </p:nvSpPr>
          <p:spPr>
            <a:xfrm>
              <a:off x="4963680" y="1746000"/>
              <a:ext cx="1532520" cy="160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080" bIns="-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4"/>
            <p:cNvSpPr/>
            <p:nvPr/>
          </p:nvSpPr>
          <p:spPr>
            <a:xfrm>
              <a:off x="4960800" y="167940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6496200" y="167940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7" name="Straight Arrow Connector 51"/>
          <p:cNvCxnSpPr/>
          <p:nvPr/>
        </p:nvCxnSpPr>
        <p:spPr>
          <a:xfrm>
            <a:off x="3203280" y="242100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8" name="Straight Arrow Connector 54"/>
          <p:cNvCxnSpPr/>
          <p:nvPr/>
        </p:nvCxnSpPr>
        <p:spPr>
          <a:xfrm>
            <a:off x="5724000" y="2421000"/>
            <a:ext cx="1080" cy="3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9" name="TextBox 55"/>
          <p:cNvSpPr/>
          <p:nvPr/>
        </p:nvSpPr>
        <p:spPr>
          <a:xfrm>
            <a:off x="3196080" y="23493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6"/>
          <p:cNvSpPr/>
          <p:nvPr/>
        </p:nvSpPr>
        <p:spPr>
          <a:xfrm>
            <a:off x="5716440" y="23493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7"/>
          <p:cNvSpPr/>
          <p:nvPr/>
        </p:nvSpPr>
        <p:spPr>
          <a:xfrm>
            <a:off x="987120" y="4843440"/>
            <a:ext cx="700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inase inactiv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 chemical 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 overexpession of inactive kinase („dominant-negative“ mut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 gene modification (analog-sensitive kin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y gene knockout (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only non-essential kinases!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8"/>
          <p:cNvSpPr/>
          <p:nvPr/>
        </p:nvSpPr>
        <p:spPr>
          <a:xfrm>
            <a:off x="200880" y="4292640"/>
            <a:ext cx="362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dapted from Kettenbach et al. Science Signaling 2011, Vol 4 Issue 179 rs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4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63"/>
          <p:cNvSpPr/>
          <p:nvPr/>
        </p:nvSpPr>
        <p:spPr>
          <a:xfrm>
            <a:off x="411840" y="260280"/>
            <a:ext cx="463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kinase substr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nase in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2209680" y="179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379680" y="5384880"/>
            <a:ext cx="1968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nanoLC-MS/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97160" y="1125360"/>
            <a:ext cx="18874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Lys-</a:t>
            </a:r>
            <a:r>
              <a:rPr b="1" lang="da-DK" sz="1400" spc="-1" strike="noStrike" baseline="30000">
                <a:solidFill>
                  <a:srgbClr val="000000"/>
                </a:solidFill>
                <a:latin typeface="Myriad Web"/>
              </a:rPr>
              <a:t>12</a:t>
            </a: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Myriad Web"/>
              </a:rPr>
              <a:t>6</a:t>
            </a:r>
            <a:r>
              <a:rPr b="1" lang="da-DK" sz="1400" spc="-1" strike="noStrike" baseline="30000">
                <a:solidFill>
                  <a:srgbClr val="000000"/>
                </a:solidFill>
                <a:latin typeface="Myriad Web"/>
              </a:rPr>
              <a:t>14</a:t>
            </a: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N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2162160" y="1884240"/>
            <a:ext cx="174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ontrol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4554720" y="1820880"/>
            <a:ext cx="2368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9680" rIns="319680" tIns="159840" bIns="15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Kinase Inacti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3665520" y="2235240"/>
            <a:ext cx="1398240" cy="404640"/>
            <a:chOff x="3665520" y="2235240"/>
            <a:chExt cx="1398240" cy="404640"/>
          </a:xfrm>
        </p:grpSpPr>
        <p:sp>
          <p:nvSpPr>
            <p:cNvPr id="252" name="Line 16"/>
            <p:cNvSpPr/>
            <p:nvPr/>
          </p:nvSpPr>
          <p:spPr>
            <a:xfrm>
              <a:off x="3665520" y="2235240"/>
              <a:ext cx="665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4330800" y="2235240"/>
              <a:ext cx="73296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>
              <a:off x="4330800" y="2370960"/>
              <a:ext cx="0" cy="26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109080" bIns="10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9"/>
          <p:cNvSpPr/>
          <p:nvPr/>
        </p:nvSpPr>
        <p:spPr>
          <a:xfrm>
            <a:off x="2293920" y="2535120"/>
            <a:ext cx="4114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ombine and 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2408040" y="98100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Myriad Web"/>
              </a:rPr>
              <a:t>”</a:t>
            </a:r>
            <a:r>
              <a:rPr b="1" lang="da-DK" sz="1600" spc="-1" strike="noStrike">
                <a:solidFill>
                  <a:srgbClr val="000000"/>
                </a:solidFill>
                <a:latin typeface="Myriad Web"/>
              </a:rPr>
              <a:t>normal A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4734000" y="98100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Myriad Web"/>
              </a:rPr>
              <a:t>”</a:t>
            </a:r>
            <a:r>
              <a:rPr b="1" lang="da-DK" sz="1600" spc="-1" strike="noStrike">
                <a:solidFill>
                  <a:srgbClr val="000000"/>
                </a:solidFill>
                <a:latin typeface="Myriad Web"/>
              </a:rPr>
              <a:t>heavy AA” (+8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7"/>
          <p:cNvSpPr/>
          <p:nvPr/>
        </p:nvSpPr>
        <p:spPr>
          <a:xfrm>
            <a:off x="3782160" y="3332160"/>
            <a:ext cx="116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Prote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(Lys-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1917720" y="4095720"/>
            <a:ext cx="4816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SC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2098800" y="4741920"/>
            <a:ext cx="446400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TiO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Myriad Web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5"/>
          <p:cNvSpPr/>
          <p:nvPr/>
        </p:nvSpPr>
        <p:spPr>
          <a:xfrm>
            <a:off x="1573200" y="2854440"/>
            <a:ext cx="223992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GeLC-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000" spc="-1" strike="noStrike">
                <a:solidFill>
                  <a:srgbClr val="000000"/>
                </a:solidFill>
                <a:latin typeface="Myriad Web"/>
              </a:rPr>
              <a:t>(15 slic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8"/>
          <p:cNvSpPr/>
          <p:nvPr/>
        </p:nvSpPr>
        <p:spPr>
          <a:xfrm>
            <a:off x="4915080" y="1125360"/>
            <a:ext cx="172368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9680" rIns="319680" tIns="159840" bIns="159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Lys-</a:t>
            </a:r>
            <a:r>
              <a:rPr b="1" lang="da-DK" sz="1400" spc="-1" strike="noStrike" baseline="30000">
                <a:solidFill>
                  <a:srgbClr val="000000"/>
                </a:solidFill>
                <a:latin typeface="Myriad Web"/>
              </a:rPr>
              <a:t>13</a:t>
            </a:r>
            <a:r>
              <a:rPr b="1" lang="da-DK" sz="1400" spc="-1" strike="noStrike">
                <a:solidFill>
                  <a:srgbClr val="000000"/>
                </a:solidFill>
                <a:latin typeface="Myriad Web"/>
              </a:rPr>
              <a:t>C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Myriad Web"/>
              </a:rPr>
              <a:t>6</a:t>
            </a:r>
            <a:r>
              <a:rPr b="1" lang="da-DK" sz="1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da-DK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da-DK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18"/>
          <p:cNvCxnSpPr/>
          <p:nvPr/>
        </p:nvCxnSpPr>
        <p:spPr>
          <a:xfrm flipH="1">
            <a:off x="4335120" y="297180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Straight Arrow Connector 19"/>
          <p:cNvCxnSpPr/>
          <p:nvPr/>
        </p:nvCxnSpPr>
        <p:spPr>
          <a:xfrm flipH="1">
            <a:off x="4325040" y="3860280"/>
            <a:ext cx="252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20"/>
          <p:cNvCxnSpPr/>
          <p:nvPr/>
        </p:nvCxnSpPr>
        <p:spPr>
          <a:xfrm flipH="1">
            <a:off x="4325040" y="447984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Straight Arrow Connector 21"/>
          <p:cNvCxnSpPr/>
          <p:nvPr/>
        </p:nvCxnSpPr>
        <p:spPr>
          <a:xfrm flipH="1">
            <a:off x="4325040" y="514044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Straight Arrow Connector 22"/>
          <p:cNvCxnSpPr/>
          <p:nvPr/>
        </p:nvCxnSpPr>
        <p:spPr>
          <a:xfrm flipH="1" flipV="1">
            <a:off x="3261600" y="312084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Shape 33"/>
          <p:cNvCxnSpPr>
            <a:stCxn id="261" idx="2"/>
          </p:cNvCxnSpPr>
          <p:nvPr/>
        </p:nvCxnSpPr>
        <p:spPr>
          <a:xfrm flipH="1" rot="16200000">
            <a:off x="2063880" y="4174560"/>
            <a:ext cx="2108880" cy="851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269" name="Group 8"/>
          <p:cNvGrpSpPr/>
          <p:nvPr/>
        </p:nvGrpSpPr>
        <p:grpSpPr>
          <a:xfrm>
            <a:off x="2335320" y="1569960"/>
            <a:ext cx="1535040" cy="320760"/>
            <a:chOff x="2335320" y="1569960"/>
            <a:chExt cx="1535040" cy="320760"/>
          </a:xfrm>
        </p:grpSpPr>
        <p:sp>
          <p:nvSpPr>
            <p:cNvPr id="270" name="Oval 9"/>
            <p:cNvSpPr/>
            <p:nvPr/>
          </p:nvSpPr>
          <p:spPr>
            <a:xfrm>
              <a:off x="2338560" y="1569960"/>
              <a:ext cx="1531800" cy="16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080" bIns="-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2338560" y="1730520"/>
              <a:ext cx="1531800" cy="160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2335320" y="166356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3870360" y="166356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32"/>
          <p:cNvGrpSpPr/>
          <p:nvPr/>
        </p:nvGrpSpPr>
        <p:grpSpPr>
          <a:xfrm>
            <a:off x="4960800" y="1585800"/>
            <a:ext cx="1535400" cy="320760"/>
            <a:chOff x="4960800" y="1585800"/>
            <a:chExt cx="1535400" cy="320760"/>
          </a:xfrm>
        </p:grpSpPr>
        <p:sp>
          <p:nvSpPr>
            <p:cNvPr id="275" name="Oval 32"/>
            <p:cNvSpPr/>
            <p:nvPr/>
          </p:nvSpPr>
          <p:spPr>
            <a:xfrm>
              <a:off x="4963680" y="1585800"/>
              <a:ext cx="153252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33"/>
            <p:cNvSpPr/>
            <p:nvPr/>
          </p:nvSpPr>
          <p:spPr>
            <a:xfrm>
              <a:off x="4963680" y="1746000"/>
              <a:ext cx="1532520" cy="160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9680" rIns="319680" tIns="-46080" bIns="-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4"/>
            <p:cNvSpPr/>
            <p:nvPr/>
          </p:nvSpPr>
          <p:spPr>
            <a:xfrm>
              <a:off x="4960800" y="167940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5"/>
            <p:cNvSpPr/>
            <p:nvPr/>
          </p:nvSpPr>
          <p:spPr>
            <a:xfrm>
              <a:off x="6496200" y="1679400"/>
              <a:ext cx="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9680" rIns="31968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28" descr=""/>
          <p:cNvPicPr/>
          <p:nvPr/>
        </p:nvPicPr>
        <p:blipFill>
          <a:blip r:embed="rId1"/>
          <a:stretch/>
        </p:blipFill>
        <p:spPr>
          <a:xfrm>
            <a:off x="3851280" y="5824440"/>
            <a:ext cx="1008000" cy="9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81" name="TextBox 63"/>
          <p:cNvSpPr/>
          <p:nvPr/>
        </p:nvSpPr>
        <p:spPr>
          <a:xfrm>
            <a:off x="410760" y="384120"/>
            <a:ext cx="45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kinase subs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figure 15-53a"/>
          <p:cNvPicPr/>
          <p:nvPr/>
        </p:nvPicPr>
        <p:blipFill>
          <a:blip r:embed="rId1"/>
          <a:stretch/>
        </p:blipFill>
        <p:spPr>
          <a:xfrm>
            <a:off x="623880" y="3062160"/>
            <a:ext cx="373212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3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Figure 15-53, 15-54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figure 15-53b"/>
          <p:cNvPicPr/>
          <p:nvPr/>
        </p:nvPicPr>
        <p:blipFill>
          <a:blip r:embed="rId2"/>
          <a:stretch/>
        </p:blipFill>
        <p:spPr>
          <a:xfrm>
            <a:off x="4500720" y="3062160"/>
            <a:ext cx="395748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5" name="TextBox 63"/>
          <p:cNvSpPr/>
          <p:nvPr/>
        </p:nvSpPr>
        <p:spPr>
          <a:xfrm>
            <a:off x="497160" y="333360"/>
            <a:ext cx="530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ominant–negative kinase mu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2423160" y="263700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xample: Receptor Tyrosine Kin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447480" y="1341360"/>
            <a:ext cx="83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overexpression of inactive kinase → suppression of endogenous kinase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(also called „kinase-dead“ stra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problem: some endogenous kinase activity re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8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609560" y="2470320"/>
            <a:ext cx="592488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1" name="TextBox 2"/>
          <p:cNvSpPr/>
          <p:nvPr/>
        </p:nvSpPr>
        <p:spPr>
          <a:xfrm>
            <a:off x="360720" y="428760"/>
            <a:ext cx="655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nstruction of analog-sensitive (as) ki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1294560" y="1425600"/>
            <a:ext cx="66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tekeeper“ amino acid in the ATP-binding pocket is rem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e ATP-binding pocket can fit an ATP analog or and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cific inhibi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9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5"/>
          <p:cNvSpPr/>
          <p:nvPr/>
        </p:nvSpPr>
        <p:spPr>
          <a:xfrm>
            <a:off x="987480" y="2349360"/>
            <a:ext cx="537048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DNA          RNA          Protein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0"/>
          <p:cNvSpPr/>
          <p:nvPr/>
        </p:nvSpPr>
        <p:spPr>
          <a:xfrm>
            <a:off x="2013120" y="2637000"/>
            <a:ext cx="83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1"/>
          <p:cNvSpPr/>
          <p:nvPr/>
        </p:nvSpPr>
        <p:spPr>
          <a:xfrm>
            <a:off x="3867120" y="2708280"/>
            <a:ext cx="83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2"/>
          <p:cNvSpPr/>
          <p:nvPr/>
        </p:nvSpPr>
        <p:spPr>
          <a:xfrm flipH="1">
            <a:off x="2013120" y="2781360"/>
            <a:ext cx="83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33"/>
          <p:cNvSpPr/>
          <p:nvPr/>
        </p:nvSpPr>
        <p:spPr>
          <a:xfrm>
            <a:off x="347760" y="1990800"/>
            <a:ext cx="1062000" cy="139536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395360"/>
              <a:gd name="textAreaBottom" fmla="*/ 1395360 h 1395360"/>
            </a:gdLst>
            <a:ahLst/>
            <a:rect l="textAreaLeft" t="textAreaTop" r="textAreaRight" b="textAreaBottom"/>
            <a:pathLst>
              <a:path fill="none" w="38977" h="43200">
                <a:moveTo>
                  <a:pt x="38976" y="34429"/>
                </a:moveTo>
                <a:cubicBezTo>
                  <a:pt x="34904" y="39945"/>
                  <a:pt x="28455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757" y="-1"/>
                  <a:pt x="33621" y="2627"/>
                  <a:pt x="37720" y="7222"/>
                </a:cubicBezTo>
              </a:path>
              <a:path stroke="0" w="38977" h="43200">
                <a:moveTo>
                  <a:pt x="38976" y="34429"/>
                </a:moveTo>
                <a:cubicBezTo>
                  <a:pt x="34904" y="39945"/>
                  <a:pt x="28455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7757" y="-1"/>
                  <a:pt x="33621" y="2627"/>
                  <a:pt x="37720" y="7222"/>
                </a:cubicBezTo>
                <a:lnTo>
                  <a:pt x="216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4"/>
          <p:cNvSpPr/>
          <p:nvPr/>
        </p:nvSpPr>
        <p:spPr>
          <a:xfrm>
            <a:off x="1500120" y="3645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851400" y="4838760"/>
            <a:ext cx="14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355920" y="3645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2406960" y="4838760"/>
            <a:ext cx="22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ranscript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5467320" y="3645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9"/>
          <p:cNvSpPr/>
          <p:nvPr/>
        </p:nvSpPr>
        <p:spPr>
          <a:xfrm>
            <a:off x="4814640" y="483876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rote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6215040" y="2357280"/>
            <a:ext cx="2558160" cy="3826080"/>
            <a:chOff x="6215040" y="2357280"/>
            <a:chExt cx="2558160" cy="3826080"/>
          </a:xfrm>
        </p:grpSpPr>
        <p:sp>
          <p:nvSpPr>
            <p:cNvPr id="107" name="Text Box 27"/>
            <p:cNvSpPr/>
            <p:nvPr/>
          </p:nvSpPr>
          <p:spPr>
            <a:xfrm>
              <a:off x="7003080" y="235728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3600" spc="-1" strike="noStrike">
                  <a:solidFill>
                    <a:srgbClr val="000000"/>
                  </a:solidFill>
                  <a:latin typeface="Calibri"/>
                </a:rPr>
                <a:t>Protein*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9"/>
            <p:cNvSpPr/>
            <p:nvPr/>
          </p:nvSpPr>
          <p:spPr>
            <a:xfrm>
              <a:off x="7007040" y="3346200"/>
              <a:ext cx="17031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Phosphory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Glycosy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Disulfide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Proteo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Acety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Methy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Sulf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Ubiquiti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GPI Anch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Calibri"/>
                </a:rPr>
                <a:t>etc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31"/>
            <p:cNvSpPr/>
            <p:nvPr/>
          </p:nvSpPr>
          <p:spPr>
            <a:xfrm>
              <a:off x="6215040" y="2714400"/>
              <a:ext cx="83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4"/>
          <p:cNvSpPr/>
          <p:nvPr/>
        </p:nvSpPr>
        <p:spPr>
          <a:xfrm>
            <a:off x="422280" y="3571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entral „dogma“ of molecular 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B395-9975-48FE-AEF4-F0B630259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13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"/>
          <p:cNvSpPr/>
          <p:nvPr/>
        </p:nvSpPr>
        <p:spPr>
          <a:xfrm>
            <a:off x="858960" y="2205000"/>
            <a:ext cx="7354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 1: Use of analog-sensitive kin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ction of Aurora kinase targets in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S. pomb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with S. Hauf, FMI/M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29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2" descr=""/>
          <p:cNvPicPr/>
          <p:nvPr/>
        </p:nvPicPr>
        <p:blipFill>
          <a:blip r:embed="rId1"/>
          <a:stretch/>
        </p:blipFill>
        <p:spPr>
          <a:xfrm>
            <a:off x="3059280" y="1574640"/>
            <a:ext cx="2813040" cy="444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9" name="TextBox 63"/>
          <p:cNvSpPr/>
          <p:nvPr/>
        </p:nvSpPr>
        <p:spPr>
          <a:xfrm>
            <a:off x="414000" y="38412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ajor mitotic kin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6553080"/>
            <a:ext cx="9067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apted from: Alexander et al. 2011. Science Signaling 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Vol 4 Issue 179 ra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30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tle 1"/>
          <p:cNvSpPr/>
          <p:nvPr/>
        </p:nvSpPr>
        <p:spPr>
          <a:xfrm>
            <a:off x="395280" y="404640"/>
            <a:ext cx="871848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rora kinas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68360" y="1749600"/>
          <a:ext cx="8217000" cy="3911400"/>
        </p:xfrm>
        <a:graphic>
          <a:graphicData uri="http://schemas.openxmlformats.org/drawingml/2006/table">
            <a:tbl>
              <a:tblPr/>
              <a:tblGrid>
                <a:gridCol w="1173240"/>
                <a:gridCol w="1174680"/>
                <a:gridCol w="1173240"/>
                <a:gridCol w="1174680"/>
                <a:gridCol w="1173240"/>
                <a:gridCol w="1174680"/>
                <a:gridCol w="1173240"/>
              </a:tblGrid>
              <a:tr h="1473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m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thali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lae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melano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elega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 cerevisi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 pomb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rora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Au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Au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Au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r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rora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l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rora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pic>
        <p:nvPicPr>
          <p:cNvPr id="305" name="Picture 3" descr="human_.jpg"/>
          <p:cNvPicPr/>
          <p:nvPr/>
        </p:nvPicPr>
        <p:blipFill>
          <a:blip r:embed="rId1"/>
          <a:stretch/>
        </p:blipFill>
        <p:spPr>
          <a:xfrm>
            <a:off x="558720" y="1839960"/>
            <a:ext cx="965160" cy="100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xenopus_.jpg"/>
          <p:cNvPicPr/>
          <p:nvPr/>
        </p:nvPicPr>
        <p:blipFill>
          <a:blip r:embed="rId2"/>
          <a:stretch/>
        </p:blipFill>
        <p:spPr>
          <a:xfrm>
            <a:off x="2932200" y="1839960"/>
            <a:ext cx="971640" cy="100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-thaliana_.jpg"/>
          <p:cNvPicPr/>
          <p:nvPr/>
        </p:nvPicPr>
        <p:blipFill>
          <a:blip r:embed="rId3"/>
          <a:stretch/>
        </p:blipFill>
        <p:spPr>
          <a:xfrm>
            <a:off x="1857240" y="1839960"/>
            <a:ext cx="725760" cy="1008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legans_.jpg"/>
          <p:cNvPicPr/>
          <p:nvPr/>
        </p:nvPicPr>
        <p:blipFill>
          <a:blip r:embed="rId4"/>
          <a:stretch/>
        </p:blipFill>
        <p:spPr>
          <a:xfrm>
            <a:off x="5243400" y="1839960"/>
            <a:ext cx="1003320" cy="100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drosophila_.jpg"/>
          <p:cNvPicPr/>
          <p:nvPr/>
        </p:nvPicPr>
        <p:blipFill>
          <a:blip r:embed="rId5"/>
          <a:stretch/>
        </p:blipFill>
        <p:spPr>
          <a:xfrm>
            <a:off x="4087800" y="1839960"/>
            <a:ext cx="1006560" cy="100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pombeDAPI_"/>
          <p:cNvPicPr/>
          <p:nvPr/>
        </p:nvPicPr>
        <p:blipFill>
          <a:blip r:embed="rId6"/>
          <a:stretch/>
        </p:blipFill>
        <p:spPr>
          <a:xfrm>
            <a:off x="7593120" y="1839960"/>
            <a:ext cx="1006200" cy="100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erevisiae_"/>
          <p:cNvPicPr/>
          <p:nvPr/>
        </p:nvPicPr>
        <p:blipFill>
          <a:blip r:embed="rId7"/>
          <a:stretch/>
        </p:blipFill>
        <p:spPr>
          <a:xfrm>
            <a:off x="6421320" y="1839960"/>
            <a:ext cx="100836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16"/>
          <p:cNvGrpSpPr/>
          <p:nvPr/>
        </p:nvGrpSpPr>
        <p:grpSpPr>
          <a:xfrm>
            <a:off x="506520" y="4060800"/>
            <a:ext cx="8127720" cy="762120"/>
            <a:chOff x="506520" y="4060800"/>
            <a:chExt cx="8127720" cy="762120"/>
          </a:xfrm>
        </p:grpSpPr>
        <p:sp>
          <p:nvSpPr>
            <p:cNvPr id="313" name="Rounded Rectangle 11"/>
            <p:cNvSpPr/>
            <p:nvPr/>
          </p:nvSpPr>
          <p:spPr>
            <a:xfrm>
              <a:off x="7542360" y="4060800"/>
              <a:ext cx="1091880" cy="7621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c0504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ounded Rectangle 12"/>
            <p:cNvSpPr/>
            <p:nvPr/>
          </p:nvSpPr>
          <p:spPr>
            <a:xfrm>
              <a:off x="506520" y="4060800"/>
              <a:ext cx="1091880" cy="762120"/>
            </a:xfrm>
            <a:prstGeom prst="roundRect">
              <a:avLst>
                <a:gd name="adj" fmla="val 16667"/>
              </a:avLst>
            </a:prstGeom>
            <a:noFill/>
            <a:ln cap="rnd" w="38160">
              <a:solidFill>
                <a:srgbClr val="c0504d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Picture 2" descr=""/>
          <p:cNvPicPr/>
          <p:nvPr/>
        </p:nvPicPr>
        <p:blipFill>
          <a:blip r:embed="rId8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316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itle 1"/>
          <p:cNvSpPr/>
          <p:nvPr/>
        </p:nvSpPr>
        <p:spPr>
          <a:xfrm>
            <a:off x="396720" y="360360"/>
            <a:ext cx="9144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east Aurora or metazoan Aurora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s and subst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1308240" y="1523880"/>
            <a:ext cx="5359320" cy="441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chromosome.psd"/>
          <p:cNvPicPr/>
          <p:nvPr/>
        </p:nvPicPr>
        <p:blipFill>
          <a:blip r:embed="rId2"/>
          <a:stretch/>
        </p:blipFill>
        <p:spPr>
          <a:xfrm rot="829800">
            <a:off x="2714760" y="1828800"/>
            <a:ext cx="2619360" cy="3811680"/>
          </a:xfrm>
          <a:prstGeom prst="rect">
            <a:avLst/>
          </a:prstGeom>
          <a:ln w="0">
            <a:noFill/>
          </a:ln>
        </p:spPr>
      </p:pic>
      <p:sp>
        <p:nvSpPr>
          <p:cNvPr id="320" name="Oval 4"/>
          <p:cNvSpPr/>
          <p:nvPr/>
        </p:nvSpPr>
        <p:spPr>
          <a:xfrm rot="21119400">
            <a:off x="3682800" y="2912760"/>
            <a:ext cx="525240" cy="210960"/>
          </a:xfrm>
          <a:prstGeom prst="ellipse">
            <a:avLst/>
          </a:prstGeom>
          <a:solidFill>
            <a:srgbClr val="be000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Sans"/>
                <a:ea typeface="Lucida Sans"/>
              </a:rPr>
              <a:t>Aur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5"/>
          <p:cNvSpPr/>
          <p:nvPr/>
        </p:nvSpPr>
        <p:spPr>
          <a:xfrm flipV="1">
            <a:off x="4125960" y="2471400"/>
            <a:ext cx="2063880" cy="43956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4070520" y="22604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7"/>
          <p:cNvSpPr/>
          <p:nvPr/>
        </p:nvSpPr>
        <p:spPr>
          <a:xfrm>
            <a:off x="3448080" y="23623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8"/>
          <p:cNvSpPr/>
          <p:nvPr/>
        </p:nvSpPr>
        <p:spPr>
          <a:xfrm>
            <a:off x="4309920" y="3446640"/>
            <a:ext cx="17316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9"/>
          <p:cNvSpPr/>
          <p:nvPr/>
        </p:nvSpPr>
        <p:spPr>
          <a:xfrm>
            <a:off x="3611520" y="378936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3746520" y="43736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3657600" y="49831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urved Down Arrow 12"/>
          <p:cNvSpPr/>
          <p:nvPr/>
        </p:nvSpPr>
        <p:spPr>
          <a:xfrm rot="21275400">
            <a:off x="3920760" y="2693880"/>
            <a:ext cx="274680" cy="125640"/>
          </a:xfrm>
          <a:custGeom>
            <a:avLst/>
            <a:gdLst>
              <a:gd name="textAreaLeft" fmla="*/ 56880 w 274680"/>
              <a:gd name="textAreaRight" fmla="*/ 202320 w 274680"/>
              <a:gd name="textAreaTop" fmla="*/ 16560 h 125640"/>
              <a:gd name="textAreaBottom" fmla="*/ 109080 h 12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1" hR="21600" stAng="10800000" swAng="5400000"/>
                <a:lnTo>
                  <a:pt x="11417" y="0"/>
                </a:lnTo>
                <a:arcTo wR="8951" hR="21600" stAng="-5400000" swAng="3484367"/>
                <a:lnTo>
                  <a:pt x="21316" y="16200"/>
                </a:lnTo>
                <a:lnTo>
                  <a:pt x="19134" y="21600"/>
                </a:lnTo>
                <a:lnTo>
                  <a:pt x="16384" y="16200"/>
                </a:lnTo>
                <a:lnTo>
                  <a:pt x="17617" y="16200"/>
                </a:lnTo>
                <a:arcTo wR="8951" hR="21600" stAng="-1915633" swAng="-3286459"/>
                <a:lnTo>
                  <a:pt x="10184" y="206"/>
                </a:lnTo>
                <a:arcTo wR="8951" hR="21600" stAng="-5597908" swAng="-5202092"/>
                <a:close/>
              </a:path>
              <a:path fill="darkenLess" w="21600" h="21600">
                <a:moveTo>
                  <a:pt x="0" y="21600"/>
                </a:moveTo>
                <a:arcTo wR="8951" hR="21600" stAng="10800000" swAng="5400000"/>
                <a:lnTo>
                  <a:pt x="8951" y="0"/>
                </a:lnTo>
                <a:arcTo wR="8951" hR="21600" stAng="-5400000" swAng="197908"/>
                <a:lnTo>
                  <a:pt x="10184" y="206"/>
                </a:lnTo>
                <a:arcTo wR="8951" hR="21600" stAng="-5597908" swAng="-5202092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urved Down Arrow 13"/>
          <p:cNvSpPr/>
          <p:nvPr/>
        </p:nvSpPr>
        <p:spPr>
          <a:xfrm flipH="1" rot="21276000">
            <a:off x="3539160" y="2752560"/>
            <a:ext cx="252360" cy="127080"/>
          </a:xfrm>
          <a:custGeom>
            <a:avLst/>
            <a:gdLst>
              <a:gd name="textAreaLeft" fmla="*/ 51120 w 252360"/>
              <a:gd name="textAreaRight" fmla="*/ 185400 w 252360"/>
              <a:gd name="textAreaTop" fmla="*/ 16920 h 127080"/>
              <a:gd name="textAreaBottom" fmla="*/ 1101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3" hR="21600" stAng="10800000" swAng="5400000"/>
                <a:lnTo>
                  <a:pt x="11479" y="0"/>
                </a:lnTo>
                <a:arcTo wR="8763" hR="21600" stAng="-5400000" swAng="3451460"/>
                <a:lnTo>
                  <a:pt x="21322" y="16200"/>
                </a:lnTo>
                <a:lnTo>
                  <a:pt x="18883" y="21600"/>
                </a:lnTo>
                <a:lnTo>
                  <a:pt x="15888" y="16200"/>
                </a:lnTo>
                <a:lnTo>
                  <a:pt x="17247" y="16200"/>
                </a:lnTo>
                <a:arcTo wR="8763" hR="21600" stAng="-1948540" swAng="-3232979"/>
                <a:lnTo>
                  <a:pt x="10121" y="261"/>
                </a:lnTo>
                <a:arcTo wR="8763" hR="21600" stAng="-5618481" swAng="-5181519"/>
                <a:close/>
              </a:path>
              <a:path fill="darkenLess" w="21600" h="21600">
                <a:moveTo>
                  <a:pt x="0" y="21600"/>
                </a:moveTo>
                <a:arcTo wR="8763" hR="21600" stAng="10800000" swAng="5400000"/>
                <a:lnTo>
                  <a:pt x="8763" y="0"/>
                </a:lnTo>
                <a:arcTo wR="8763" hR="21600" stAng="-5400000" swAng="218481"/>
                <a:lnTo>
                  <a:pt x="10121" y="261"/>
                </a:lnTo>
                <a:arcTo wR="8763" hR="21600" stAng="-5618481" swAng="-5181519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4"/>
          <p:cNvSpPr/>
          <p:nvPr/>
        </p:nvSpPr>
        <p:spPr>
          <a:xfrm>
            <a:off x="4305240" y="392436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5"/>
          <p:cNvSpPr/>
          <p:nvPr/>
        </p:nvSpPr>
        <p:spPr>
          <a:xfrm>
            <a:off x="4432320" y="4446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5359320" y="3568680"/>
            <a:ext cx="312444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Conden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5359320" y="1562040"/>
            <a:ext cx="312444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Known substrate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Histone H3 (Se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Lucida Sans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5359320" y="4233960"/>
            <a:ext cx="312444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cf27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f2703"/>
                </a:solidFill>
                <a:latin typeface="Lucida Sans"/>
              </a:rPr>
              <a:t> </a:t>
            </a:r>
            <a:r>
              <a:rPr b="0" lang="en-US" sz="1400" spc="-1" strike="noStrike">
                <a:solidFill>
                  <a:srgbClr val="cf2703"/>
                </a:solidFill>
                <a:latin typeface="Lucida Sans"/>
              </a:rPr>
              <a:t>Other substrate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584280" y="4272120"/>
            <a:ext cx="2108160" cy="51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indle assemb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eck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0"/>
          <p:cNvSpPr/>
          <p:nvPr/>
        </p:nvSpPr>
        <p:spPr>
          <a:xfrm flipV="1">
            <a:off x="4168800" y="2531880"/>
            <a:ext cx="2062080" cy="43812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21"/>
          <p:cNvSpPr/>
          <p:nvPr/>
        </p:nvSpPr>
        <p:spPr>
          <a:xfrm flipV="1">
            <a:off x="1328760" y="3048120"/>
            <a:ext cx="2311200" cy="47448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22"/>
          <p:cNvSpPr/>
          <p:nvPr/>
        </p:nvSpPr>
        <p:spPr>
          <a:xfrm flipV="1">
            <a:off x="1320840" y="3131640"/>
            <a:ext cx="2311200" cy="47484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3"/>
          <p:cNvSpPr/>
          <p:nvPr/>
        </p:nvSpPr>
        <p:spPr>
          <a:xfrm>
            <a:off x="3711600" y="335268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24"/>
          <p:cNvSpPr/>
          <p:nvPr/>
        </p:nvSpPr>
        <p:spPr>
          <a:xfrm>
            <a:off x="3559320" y="3005280"/>
            <a:ext cx="17280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5"/>
          <p:cNvSpPr/>
          <p:nvPr/>
        </p:nvSpPr>
        <p:spPr>
          <a:xfrm>
            <a:off x="4133880" y="2844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6"/>
          <p:cNvSpPr/>
          <p:nvPr/>
        </p:nvSpPr>
        <p:spPr>
          <a:xfrm>
            <a:off x="3440160" y="293832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7"/>
          <p:cNvSpPr/>
          <p:nvPr/>
        </p:nvSpPr>
        <p:spPr>
          <a:xfrm>
            <a:off x="4253040" y="2921040"/>
            <a:ext cx="1728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Arrow Callout 28"/>
          <p:cNvSpPr/>
          <p:nvPr/>
        </p:nvSpPr>
        <p:spPr>
          <a:xfrm>
            <a:off x="223920" y="2886120"/>
            <a:ext cx="3141720" cy="533520"/>
          </a:xfrm>
          <a:prstGeom prst="rightArrowCallout">
            <a:avLst>
              <a:gd name="adj1" fmla="val 34133"/>
              <a:gd name="adj2" fmla="val 37699"/>
              <a:gd name="adj3" fmla="val 26581"/>
              <a:gd name="adj4" fmla="val 81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Lucida Sans"/>
              </a:rPr>
              <a:t>Regulation of kinetochore-microtubule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5359320" y="2387520"/>
            <a:ext cx="3124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Outer kinetochore prote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Ndc80/Hec1, Dsn1, KN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Dam1/DASH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MC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Arrow Callout 30"/>
          <p:cNvSpPr/>
          <p:nvPr/>
        </p:nvSpPr>
        <p:spPr>
          <a:xfrm>
            <a:off x="584280" y="3571920"/>
            <a:ext cx="2768400" cy="533520"/>
          </a:xfrm>
          <a:prstGeom prst="rightArrowCallout">
            <a:avLst>
              <a:gd name="adj1" fmla="val 34133"/>
              <a:gd name="adj2" fmla="val 37699"/>
              <a:gd name="adj3" fmla="val 26569"/>
              <a:gd name="adj4" fmla="val 765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Lucida Sans"/>
              </a:rPr>
              <a:t>Compaction of chrom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348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7"/>
          <p:cNvSpPr/>
          <p:nvPr/>
        </p:nvSpPr>
        <p:spPr>
          <a:xfrm rot="5400000">
            <a:off x="-734040" y="2450160"/>
            <a:ext cx="2311200" cy="525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76092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"/>
          <p:cNvSpPr/>
          <p:nvPr/>
        </p:nvSpPr>
        <p:spPr>
          <a:xfrm rot="5400000">
            <a:off x="-734040" y="4761360"/>
            <a:ext cx="2311560" cy="525600"/>
          </a:xfrm>
          <a:prstGeom prst="rect">
            <a:avLst/>
          </a:prstGeom>
          <a:solidFill>
            <a:srgbClr val="376092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2"/>
          <p:cNvSpPr/>
          <p:nvPr/>
        </p:nvSpPr>
        <p:spPr>
          <a:xfrm flipH="1" flipV="1">
            <a:off x="157320" y="3863520"/>
            <a:ext cx="536400" cy="180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3"/>
          <p:cNvSpPr/>
          <p:nvPr/>
        </p:nvSpPr>
        <p:spPr>
          <a:xfrm>
            <a:off x="194400" y="2603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4"/>
          <p:cNvSpPr/>
          <p:nvPr/>
        </p:nvSpPr>
        <p:spPr>
          <a:xfrm>
            <a:off x="232560" y="4653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5" descr="Ark1-as.psd"/>
          <p:cNvPicPr/>
          <p:nvPr/>
        </p:nvPicPr>
        <p:blipFill>
          <a:blip r:embed="rId1"/>
          <a:stretch/>
        </p:blipFill>
        <p:spPr>
          <a:xfrm>
            <a:off x="1333440" y="4243320"/>
            <a:ext cx="874800" cy="71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6" descr="Ark1-as_NMPP1.psd"/>
          <p:cNvPicPr/>
          <p:nvPr/>
        </p:nvPicPr>
        <p:blipFill>
          <a:blip r:embed="rId2"/>
          <a:stretch/>
        </p:blipFill>
        <p:spPr>
          <a:xfrm>
            <a:off x="2568600" y="4243320"/>
            <a:ext cx="876240" cy="792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8" descr="pombe_M.psd"/>
          <p:cNvPicPr/>
          <p:nvPr/>
        </p:nvPicPr>
        <p:blipFill>
          <a:blip r:embed="rId3"/>
          <a:stretch/>
        </p:blipFill>
        <p:spPr>
          <a:xfrm>
            <a:off x="1193760" y="5472000"/>
            <a:ext cx="2219400" cy="67176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30"/>
          <p:cNvSpPr/>
          <p:nvPr/>
        </p:nvSpPr>
        <p:spPr>
          <a:xfrm>
            <a:off x="939240" y="2197080"/>
            <a:ext cx="4680" cy="152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2"/>
          <p:cNvSpPr/>
          <p:nvPr/>
        </p:nvSpPr>
        <p:spPr>
          <a:xfrm flipH="1" flipV="1">
            <a:off x="774720" y="3726000"/>
            <a:ext cx="3427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9" name="Straight Arrow Connector 34"/>
          <p:cNvCxnSpPr/>
          <p:nvPr/>
        </p:nvCxnSpPr>
        <p:spPr>
          <a:xfrm>
            <a:off x="960120" y="3854880"/>
            <a:ext cx="13320" cy="19184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Box 36"/>
          <p:cNvSpPr/>
          <p:nvPr/>
        </p:nvSpPr>
        <p:spPr>
          <a:xfrm>
            <a:off x="1205280" y="325116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2 arrest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dc25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20"/>
          <p:cNvSpPr/>
          <p:nvPr/>
        </p:nvSpPr>
        <p:spPr>
          <a:xfrm>
            <a:off x="901800" y="1320840"/>
            <a:ext cx="2641680" cy="580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. 1: Aurora inhib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61"/>
          <p:cNvSpPr/>
          <p:nvPr/>
        </p:nvSpPr>
        <p:spPr>
          <a:xfrm>
            <a:off x="1624320" y="37926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1009"/>
                </a:solidFill>
                <a:latin typeface="Arial"/>
              </a:rPr>
              <a:t>Aurora-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33"/>
          <p:cNvGrpSpPr/>
          <p:nvPr/>
        </p:nvGrpSpPr>
        <p:grpSpPr>
          <a:xfrm>
            <a:off x="3593520" y="1320840"/>
            <a:ext cx="2750040" cy="4863960"/>
            <a:chOff x="3593520" y="1320840"/>
            <a:chExt cx="2750040" cy="4863960"/>
          </a:xfrm>
        </p:grpSpPr>
        <p:sp>
          <p:nvSpPr>
            <p:cNvPr id="364" name="TextBox 19"/>
            <p:cNvSpPr/>
            <p:nvPr/>
          </p:nvSpPr>
          <p:spPr>
            <a:xfrm>
              <a:off x="3877200" y="5075640"/>
              <a:ext cx="207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microtubule dru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48"/>
            <p:cNvSpPr/>
            <p:nvPr/>
          </p:nvSpPr>
          <p:spPr>
            <a:xfrm>
              <a:off x="3676680" y="1320840"/>
              <a:ext cx="2666880" cy="58068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. 2: Aurora inhib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+ microtubule dru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54" descr="Ark1-as.psd"/>
            <p:cNvPicPr/>
            <p:nvPr/>
          </p:nvPicPr>
          <p:blipFill>
            <a:blip r:embed="rId4"/>
            <a:stretch/>
          </p:blipFill>
          <p:spPr>
            <a:xfrm>
              <a:off x="3961800" y="4243680"/>
              <a:ext cx="8755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55" descr="Ark1-as_NMPP1.psd"/>
            <p:cNvPicPr/>
            <p:nvPr/>
          </p:nvPicPr>
          <p:blipFill>
            <a:blip r:embed="rId5"/>
            <a:stretch/>
          </p:blipFill>
          <p:spPr>
            <a:xfrm>
              <a:off x="5198040" y="4243680"/>
              <a:ext cx="87552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Straight Connector 57"/>
            <p:cNvSpPr/>
            <p:nvPr/>
          </p:nvSpPr>
          <p:spPr>
            <a:xfrm>
              <a:off x="3593520" y="1904760"/>
              <a:ext cx="37800" cy="4280040"/>
            </a:xfrm>
            <a:prstGeom prst="line">
              <a:avLst/>
            </a:prstGeom>
            <a:ln w="64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62"/>
            <p:cNvSpPr/>
            <p:nvPr/>
          </p:nvSpPr>
          <p:spPr>
            <a:xfrm>
              <a:off x="4405680" y="379296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d1009"/>
                  </a:solidFill>
                  <a:latin typeface="Arial"/>
                </a:rPr>
                <a:t>Aurora-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6412680" y="1320840"/>
            <a:ext cx="2731320" cy="4863960"/>
            <a:chOff x="6412680" y="1320840"/>
            <a:chExt cx="2731320" cy="4863960"/>
          </a:xfrm>
        </p:grpSpPr>
        <p:sp>
          <p:nvSpPr>
            <p:cNvPr id="371" name="TextBox 31"/>
            <p:cNvSpPr/>
            <p:nvPr/>
          </p:nvSpPr>
          <p:spPr>
            <a:xfrm>
              <a:off x="6476760" y="1320840"/>
              <a:ext cx="2667240" cy="5806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p. 3: Inhibit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de eff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2" name="Picture 50" descr="Ark1_wt_NMPP1.psd"/>
            <p:cNvPicPr/>
            <p:nvPr/>
          </p:nvPicPr>
          <p:blipFill>
            <a:blip r:embed="rId6"/>
            <a:stretch/>
          </p:blipFill>
          <p:spPr>
            <a:xfrm>
              <a:off x="7830000" y="4243680"/>
              <a:ext cx="1212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Straight Connector 58"/>
            <p:cNvSpPr/>
            <p:nvPr/>
          </p:nvSpPr>
          <p:spPr>
            <a:xfrm>
              <a:off x="6412680" y="1904760"/>
              <a:ext cx="37800" cy="4280040"/>
            </a:xfrm>
            <a:prstGeom prst="line">
              <a:avLst/>
            </a:prstGeom>
            <a:ln w="648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60"/>
            <p:cNvGrpSpPr/>
            <p:nvPr/>
          </p:nvGrpSpPr>
          <p:grpSpPr>
            <a:xfrm>
              <a:off x="6704640" y="4231080"/>
              <a:ext cx="991440" cy="823320"/>
              <a:chOff x="6704640" y="4231080"/>
              <a:chExt cx="991440" cy="823320"/>
            </a:xfrm>
          </p:grpSpPr>
          <p:pic>
            <p:nvPicPr>
              <p:cNvPr id="375" name="Picture 51" descr="Ark1_wt_NMPP1.psd"/>
              <p:cNvPicPr/>
              <p:nvPr/>
            </p:nvPicPr>
            <p:blipFill>
              <a:blip r:embed="rId7"/>
              <a:srcRect l="0" t="0" r="25571" b="31505"/>
              <a:stretch/>
            </p:blipFill>
            <p:spPr>
              <a:xfrm>
                <a:off x="6704640" y="4231080"/>
                <a:ext cx="902520" cy="68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Oval 59"/>
              <p:cNvSpPr/>
              <p:nvPr/>
            </p:nvSpPr>
            <p:spPr>
              <a:xfrm>
                <a:off x="7378560" y="4762440"/>
                <a:ext cx="317520" cy="291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TextBox 63"/>
            <p:cNvSpPr/>
            <p:nvPr/>
          </p:nvSpPr>
          <p:spPr>
            <a:xfrm>
              <a:off x="6777720" y="379296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d1009"/>
                  </a:solidFill>
                  <a:latin typeface="Arial"/>
                </a:rPr>
                <a:t>wild type Aur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itle 1"/>
          <p:cNvSpPr/>
          <p:nvPr/>
        </p:nvSpPr>
        <p:spPr>
          <a:xfrm>
            <a:off x="395280" y="4190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icates and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8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38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7" descr=""/>
          <p:cNvPicPr/>
          <p:nvPr/>
        </p:nvPicPr>
        <p:blipFill>
          <a:blip r:embed="rId1"/>
          <a:srcRect l="0" t="0" r="3340" b="0"/>
          <a:stretch/>
        </p:blipFill>
        <p:spPr>
          <a:xfrm>
            <a:off x="4627440" y="2117880"/>
            <a:ext cx="4408560" cy="4624200"/>
          </a:xfrm>
          <a:prstGeom prst="rect">
            <a:avLst/>
          </a:prstGeom>
          <a:ln w="0">
            <a:noFill/>
          </a:ln>
        </p:spPr>
      </p:pic>
      <p:sp>
        <p:nvSpPr>
          <p:cNvPr id="382" name="TextBox 27"/>
          <p:cNvSpPr/>
          <p:nvPr/>
        </p:nvSpPr>
        <p:spPr>
          <a:xfrm>
            <a:off x="687780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8"/>
          <p:cNvSpPr/>
          <p:nvPr/>
        </p:nvSpPr>
        <p:spPr>
          <a:xfrm>
            <a:off x="630684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9"/>
          <p:cNvSpPr/>
          <p:nvPr/>
        </p:nvSpPr>
        <p:spPr>
          <a:xfrm>
            <a:off x="577980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0"/>
          <p:cNvSpPr/>
          <p:nvPr/>
        </p:nvSpPr>
        <p:spPr>
          <a:xfrm>
            <a:off x="524664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1"/>
          <p:cNvSpPr/>
          <p:nvPr/>
        </p:nvSpPr>
        <p:spPr>
          <a:xfrm>
            <a:off x="741132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2"/>
          <p:cNvSpPr/>
          <p:nvPr/>
        </p:nvSpPr>
        <p:spPr>
          <a:xfrm>
            <a:off x="794484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33"/>
          <p:cNvSpPr/>
          <p:nvPr/>
        </p:nvSpPr>
        <p:spPr>
          <a:xfrm>
            <a:off x="847188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16" descr=""/>
          <p:cNvPicPr/>
          <p:nvPr/>
        </p:nvPicPr>
        <p:blipFill>
          <a:blip r:embed="rId2"/>
          <a:srcRect l="0" t="0" r="3095" b="0"/>
          <a:stretch/>
        </p:blipFill>
        <p:spPr>
          <a:xfrm>
            <a:off x="95400" y="2117880"/>
            <a:ext cx="4419360" cy="4624200"/>
          </a:xfrm>
          <a:prstGeom prst="rect">
            <a:avLst/>
          </a:prstGeom>
          <a:ln w="0">
            <a:noFill/>
          </a:ln>
        </p:spPr>
      </p:pic>
      <p:sp>
        <p:nvSpPr>
          <p:cNvPr id="390" name="TextBox 12"/>
          <p:cNvSpPr/>
          <p:nvPr/>
        </p:nvSpPr>
        <p:spPr>
          <a:xfrm>
            <a:off x="57240" y="13510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1 + 2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rora 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3"/>
          <p:cNvSpPr/>
          <p:nvPr/>
        </p:nvSpPr>
        <p:spPr>
          <a:xfrm>
            <a:off x="4591080" y="13510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.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or sid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3"/>
          <p:cNvSpPr/>
          <p:nvPr/>
        </p:nvSpPr>
        <p:spPr>
          <a:xfrm>
            <a:off x="6410160" y="6019920"/>
            <a:ext cx="1240200" cy="44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H/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4"/>
          <p:cNvSpPr/>
          <p:nvPr/>
        </p:nvSpPr>
        <p:spPr>
          <a:xfrm>
            <a:off x="5414760" y="2203560"/>
            <a:ext cx="1625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ntified: 54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5"/>
          <p:cNvSpPr/>
          <p:nvPr/>
        </p:nvSpPr>
        <p:spPr>
          <a:xfrm rot="16200000">
            <a:off x="4055760" y="3612600"/>
            <a:ext cx="1520640" cy="37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intens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7"/>
          <p:cNvSpPr/>
          <p:nvPr/>
        </p:nvSpPr>
        <p:spPr>
          <a:xfrm>
            <a:off x="1881000" y="6019920"/>
            <a:ext cx="1240200" cy="440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H/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48"/>
          <p:cNvSpPr/>
          <p:nvPr/>
        </p:nvSpPr>
        <p:spPr>
          <a:xfrm>
            <a:off x="814320" y="2203560"/>
            <a:ext cx="16254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ntified: 48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9"/>
          <p:cNvSpPr/>
          <p:nvPr/>
        </p:nvSpPr>
        <p:spPr>
          <a:xfrm rot="16200000">
            <a:off x="-480960" y="3612600"/>
            <a:ext cx="1520640" cy="37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g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(intens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4"/>
          <p:cNvSpPr/>
          <p:nvPr/>
        </p:nvSpPr>
        <p:spPr>
          <a:xfrm>
            <a:off x="1027080" y="2647800"/>
            <a:ext cx="52200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15"/>
          <p:cNvSpPr/>
          <p:nvPr/>
        </p:nvSpPr>
        <p:spPr>
          <a:xfrm>
            <a:off x="5632560" y="2647800"/>
            <a:ext cx="522000" cy="581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Zapf Dingbats"/>
                <a:ea typeface="Zapf Dingbats"/>
              </a:rPr>
              <a:t>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8"/>
          <p:cNvSpPr/>
          <p:nvPr/>
        </p:nvSpPr>
        <p:spPr>
          <a:xfrm>
            <a:off x="234720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9"/>
          <p:cNvSpPr/>
          <p:nvPr/>
        </p:nvSpPr>
        <p:spPr>
          <a:xfrm>
            <a:off x="169992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0"/>
          <p:cNvSpPr/>
          <p:nvPr/>
        </p:nvSpPr>
        <p:spPr>
          <a:xfrm>
            <a:off x="110952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1"/>
          <p:cNvSpPr/>
          <p:nvPr/>
        </p:nvSpPr>
        <p:spPr>
          <a:xfrm>
            <a:off x="506160" y="570240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2"/>
          <p:cNvSpPr/>
          <p:nvPr/>
        </p:nvSpPr>
        <p:spPr>
          <a:xfrm>
            <a:off x="293148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23"/>
          <p:cNvSpPr/>
          <p:nvPr/>
        </p:nvSpPr>
        <p:spPr>
          <a:xfrm>
            <a:off x="354744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4"/>
          <p:cNvSpPr/>
          <p:nvPr/>
        </p:nvSpPr>
        <p:spPr>
          <a:xfrm>
            <a:off x="4144320" y="5702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itle 1"/>
          <p:cNvSpPr/>
          <p:nvPr/>
        </p:nvSpPr>
        <p:spPr>
          <a:xfrm>
            <a:off x="395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on Results: Phosphoprote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0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8000" y="1339920"/>
            <a:ext cx="3600360" cy="33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2771640" y="2257560"/>
            <a:ext cx="3600720" cy="340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" name="Picture 4" descr=""/>
          <p:cNvPicPr/>
          <p:nvPr/>
        </p:nvPicPr>
        <p:blipFill>
          <a:blip r:embed="rId3"/>
          <a:stretch/>
        </p:blipFill>
        <p:spPr>
          <a:xfrm>
            <a:off x="5508720" y="3429000"/>
            <a:ext cx="3598920" cy="33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3" name="Title 1"/>
          <p:cNvSpPr/>
          <p:nvPr/>
        </p:nvSpPr>
        <p:spPr>
          <a:xfrm>
            <a:off x="395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on Results: Prote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4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15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 of downregulated P-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457200" y="1341360"/>
          <a:ext cx="8229600" cy="4017960"/>
        </p:xfrm>
        <a:graphic>
          <a:graphicData uri="http://schemas.openxmlformats.org/drawingml/2006/table">
            <a:tbl>
              <a:tblPr/>
              <a:tblGrid>
                <a:gridCol w="1219320"/>
                <a:gridCol w="1131840"/>
                <a:gridCol w="1176120"/>
                <a:gridCol w="1175040"/>
                <a:gridCol w="1176120"/>
                <a:gridCol w="1174680"/>
                <a:gridCol w="1176480"/>
              </a:tblGrid>
              <a:tr h="44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p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65a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23232"/>
                    </a:solidFill>
                  </a:tcPr>
                </a:tc>
              </a:tr>
            </a:tbl>
          </a:graphicData>
        </a:graphic>
      </p:graphicFrame>
      <p:sp>
        <p:nvSpPr>
          <p:cNvPr id="418" name="TextBox 3"/>
          <p:cNvSpPr/>
          <p:nvPr/>
        </p:nvSpPr>
        <p:spPr>
          <a:xfrm>
            <a:off x="482760" y="5562720"/>
            <a:ext cx="813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own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1: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upreg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not det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2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n substrates identifi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Oval 2"/>
          <p:cNvSpPr/>
          <p:nvPr/>
        </p:nvSpPr>
        <p:spPr>
          <a:xfrm>
            <a:off x="1308240" y="1523880"/>
            <a:ext cx="5359320" cy="441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3" descr="chromosome.psd"/>
          <p:cNvPicPr/>
          <p:nvPr/>
        </p:nvPicPr>
        <p:blipFill>
          <a:blip r:embed="rId2"/>
          <a:stretch/>
        </p:blipFill>
        <p:spPr>
          <a:xfrm rot="829800">
            <a:off x="2714760" y="1828800"/>
            <a:ext cx="2619360" cy="3811680"/>
          </a:xfrm>
          <a:prstGeom prst="rect">
            <a:avLst/>
          </a:prstGeom>
          <a:ln w="0">
            <a:noFill/>
          </a:ln>
        </p:spPr>
      </p:pic>
      <p:sp>
        <p:nvSpPr>
          <p:cNvPr id="424" name="Oval 4"/>
          <p:cNvSpPr/>
          <p:nvPr/>
        </p:nvSpPr>
        <p:spPr>
          <a:xfrm rot="21119400">
            <a:off x="3682800" y="2912760"/>
            <a:ext cx="525240" cy="210960"/>
          </a:xfrm>
          <a:prstGeom prst="ellipse">
            <a:avLst/>
          </a:prstGeom>
          <a:solidFill>
            <a:srgbClr val="be000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Sans"/>
                <a:ea typeface="Lucida Sans"/>
              </a:rPr>
              <a:t>Aur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5"/>
          <p:cNvSpPr/>
          <p:nvPr/>
        </p:nvSpPr>
        <p:spPr>
          <a:xfrm flipV="1">
            <a:off x="4125960" y="2471400"/>
            <a:ext cx="2063880" cy="43956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070520" y="22604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448080" y="23623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309920" y="3446640"/>
            <a:ext cx="17316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2"/>
          <p:cNvSpPr/>
          <p:nvPr/>
        </p:nvSpPr>
        <p:spPr>
          <a:xfrm>
            <a:off x="3611520" y="378936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14"/>
          <p:cNvSpPr/>
          <p:nvPr/>
        </p:nvSpPr>
        <p:spPr>
          <a:xfrm>
            <a:off x="3746520" y="43736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5"/>
          <p:cNvSpPr/>
          <p:nvPr/>
        </p:nvSpPr>
        <p:spPr>
          <a:xfrm>
            <a:off x="3657600" y="49831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Curved Down Arrow 20"/>
          <p:cNvSpPr/>
          <p:nvPr/>
        </p:nvSpPr>
        <p:spPr>
          <a:xfrm rot="21275400">
            <a:off x="3920760" y="2693880"/>
            <a:ext cx="274680" cy="125640"/>
          </a:xfrm>
          <a:custGeom>
            <a:avLst/>
            <a:gdLst>
              <a:gd name="textAreaLeft" fmla="*/ 56880 w 274680"/>
              <a:gd name="textAreaRight" fmla="*/ 202320 w 274680"/>
              <a:gd name="textAreaTop" fmla="*/ 16560 h 125640"/>
              <a:gd name="textAreaBottom" fmla="*/ 109080 h 12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1" hR="21600" stAng="10800000" swAng="5400000"/>
                <a:lnTo>
                  <a:pt x="11417" y="0"/>
                </a:lnTo>
                <a:arcTo wR="8951" hR="21600" stAng="-5400000" swAng="3484367"/>
                <a:lnTo>
                  <a:pt x="21316" y="16200"/>
                </a:lnTo>
                <a:lnTo>
                  <a:pt x="19134" y="21600"/>
                </a:lnTo>
                <a:lnTo>
                  <a:pt x="16384" y="16200"/>
                </a:lnTo>
                <a:lnTo>
                  <a:pt x="17617" y="16200"/>
                </a:lnTo>
                <a:arcTo wR="8951" hR="21600" stAng="-1915633" swAng="-3286459"/>
                <a:lnTo>
                  <a:pt x="10184" y="206"/>
                </a:lnTo>
                <a:arcTo wR="8951" hR="21600" stAng="-5597908" swAng="-5202092"/>
                <a:close/>
              </a:path>
              <a:path fill="darkenLess" w="21600" h="21600">
                <a:moveTo>
                  <a:pt x="0" y="21600"/>
                </a:moveTo>
                <a:arcTo wR="8951" hR="21600" stAng="10800000" swAng="5400000"/>
                <a:lnTo>
                  <a:pt x="8951" y="0"/>
                </a:lnTo>
                <a:arcTo wR="8951" hR="21600" stAng="-5400000" swAng="197908"/>
                <a:lnTo>
                  <a:pt x="10184" y="206"/>
                </a:lnTo>
                <a:arcTo wR="8951" hR="21600" stAng="-5597908" swAng="-5202092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urved Down Arrow 21"/>
          <p:cNvSpPr/>
          <p:nvPr/>
        </p:nvSpPr>
        <p:spPr>
          <a:xfrm flipH="1" rot="21276000">
            <a:off x="3539160" y="2752560"/>
            <a:ext cx="252360" cy="127080"/>
          </a:xfrm>
          <a:custGeom>
            <a:avLst/>
            <a:gdLst>
              <a:gd name="textAreaLeft" fmla="*/ 51120 w 252360"/>
              <a:gd name="textAreaRight" fmla="*/ 185400 w 252360"/>
              <a:gd name="textAreaTop" fmla="*/ 16920 h 127080"/>
              <a:gd name="textAreaBottom" fmla="*/ 1101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3" hR="21600" stAng="10800000" swAng="5400000"/>
                <a:lnTo>
                  <a:pt x="11479" y="0"/>
                </a:lnTo>
                <a:arcTo wR="8763" hR="21600" stAng="-5400000" swAng="3451460"/>
                <a:lnTo>
                  <a:pt x="21322" y="16200"/>
                </a:lnTo>
                <a:lnTo>
                  <a:pt x="18883" y="21600"/>
                </a:lnTo>
                <a:lnTo>
                  <a:pt x="15888" y="16200"/>
                </a:lnTo>
                <a:lnTo>
                  <a:pt x="17247" y="16200"/>
                </a:lnTo>
                <a:arcTo wR="8763" hR="21600" stAng="-1948540" swAng="-3232979"/>
                <a:lnTo>
                  <a:pt x="10121" y="261"/>
                </a:lnTo>
                <a:arcTo wR="8763" hR="21600" stAng="-5618481" swAng="-5181519"/>
                <a:close/>
              </a:path>
              <a:path fill="darkenLess" w="21600" h="21600">
                <a:moveTo>
                  <a:pt x="0" y="21600"/>
                </a:moveTo>
                <a:arcTo wR="8763" hR="21600" stAng="10800000" swAng="5400000"/>
                <a:lnTo>
                  <a:pt x="8763" y="0"/>
                </a:lnTo>
                <a:arcTo wR="8763" hR="21600" stAng="-5400000" swAng="218481"/>
                <a:lnTo>
                  <a:pt x="10121" y="261"/>
                </a:lnTo>
                <a:arcTo wR="8763" hR="21600" stAng="-5618481" swAng="-5181519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33"/>
          <p:cNvSpPr/>
          <p:nvPr/>
        </p:nvSpPr>
        <p:spPr>
          <a:xfrm>
            <a:off x="4305240" y="392436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34"/>
          <p:cNvSpPr/>
          <p:nvPr/>
        </p:nvSpPr>
        <p:spPr>
          <a:xfrm>
            <a:off x="4432320" y="4446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6"/>
          <p:cNvSpPr/>
          <p:nvPr/>
        </p:nvSpPr>
        <p:spPr>
          <a:xfrm>
            <a:off x="5359320" y="3568680"/>
            <a:ext cx="3124440" cy="46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ndens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7"/>
          <p:cNvSpPr/>
          <p:nvPr/>
        </p:nvSpPr>
        <p:spPr>
          <a:xfrm>
            <a:off x="5359320" y="1562040"/>
            <a:ext cx="312444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n substrate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istone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42"/>
          <p:cNvSpPr/>
          <p:nvPr/>
        </p:nvSpPr>
        <p:spPr>
          <a:xfrm flipV="1">
            <a:off x="4168800" y="2531880"/>
            <a:ext cx="2062080" cy="43812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43"/>
          <p:cNvSpPr/>
          <p:nvPr/>
        </p:nvSpPr>
        <p:spPr>
          <a:xfrm flipV="1">
            <a:off x="1328760" y="3048120"/>
            <a:ext cx="2311200" cy="47448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47"/>
          <p:cNvSpPr/>
          <p:nvPr/>
        </p:nvSpPr>
        <p:spPr>
          <a:xfrm flipV="1">
            <a:off x="1320840" y="3131640"/>
            <a:ext cx="2311200" cy="47484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48"/>
          <p:cNvSpPr/>
          <p:nvPr/>
        </p:nvSpPr>
        <p:spPr>
          <a:xfrm>
            <a:off x="3711600" y="335268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49"/>
          <p:cNvSpPr/>
          <p:nvPr/>
        </p:nvSpPr>
        <p:spPr>
          <a:xfrm>
            <a:off x="3559320" y="3005280"/>
            <a:ext cx="17280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50"/>
          <p:cNvSpPr/>
          <p:nvPr/>
        </p:nvSpPr>
        <p:spPr>
          <a:xfrm>
            <a:off x="4133880" y="2844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51"/>
          <p:cNvSpPr/>
          <p:nvPr/>
        </p:nvSpPr>
        <p:spPr>
          <a:xfrm>
            <a:off x="3440160" y="293832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52"/>
          <p:cNvSpPr/>
          <p:nvPr/>
        </p:nvSpPr>
        <p:spPr>
          <a:xfrm>
            <a:off x="4253040" y="2921040"/>
            <a:ext cx="1728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5"/>
          <p:cNvSpPr/>
          <p:nvPr/>
        </p:nvSpPr>
        <p:spPr>
          <a:xfrm>
            <a:off x="5359320" y="2387520"/>
            <a:ext cx="312444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uter kinetochore prote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c80/Hec1, Dsn1, KN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m1/DASH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C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53"/>
          <p:cNvGrpSpPr/>
          <p:nvPr/>
        </p:nvGrpSpPr>
        <p:grpSpPr>
          <a:xfrm>
            <a:off x="5359320" y="1562040"/>
            <a:ext cx="3124440" cy="2523960"/>
            <a:chOff x="5359320" y="1562040"/>
            <a:chExt cx="3124440" cy="2523960"/>
          </a:xfrm>
        </p:grpSpPr>
        <p:sp>
          <p:nvSpPr>
            <p:cNvPr id="448" name="Rectangle 45"/>
            <p:cNvSpPr/>
            <p:nvPr/>
          </p:nvSpPr>
          <p:spPr>
            <a:xfrm>
              <a:off x="5359320" y="1562040"/>
              <a:ext cx="3124440" cy="652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0" rIns="90000" tIns="108000" bIns="10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Known substrates: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Histone H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46"/>
            <p:cNvSpPr/>
            <p:nvPr/>
          </p:nvSpPr>
          <p:spPr>
            <a:xfrm>
              <a:off x="5359320" y="3568680"/>
              <a:ext cx="3124440" cy="46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80000" rIns="90000" tIns="108000" bIns="10800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Condens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40"/>
            <p:cNvGrpSpPr/>
            <p:nvPr/>
          </p:nvGrpSpPr>
          <p:grpSpPr>
            <a:xfrm>
              <a:off x="5359320" y="1599840"/>
              <a:ext cx="3124440" cy="2486160"/>
              <a:chOff x="5359320" y="1599840"/>
              <a:chExt cx="3124440" cy="2486160"/>
            </a:xfrm>
          </p:grpSpPr>
          <p:sp>
            <p:nvSpPr>
              <p:cNvPr id="451" name="Rectangle 44"/>
              <p:cNvSpPr/>
              <p:nvPr/>
            </p:nvSpPr>
            <p:spPr>
              <a:xfrm>
                <a:off x="5359320" y="2387160"/>
                <a:ext cx="3124440" cy="1015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80000" rIns="90000" tIns="108000" bIns="108000" anchor="t">
                <a:no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Outer kinetochore proteins: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dc80/Hec1, Dsn1,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Calibri"/>
                  </a:rPr>
                  <a:t>KNL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Dam1/DASH comple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CA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Group 39"/>
              <p:cNvGrpSpPr/>
              <p:nvPr/>
            </p:nvGrpSpPr>
            <p:grpSpPr>
              <a:xfrm>
                <a:off x="7713720" y="1599840"/>
                <a:ext cx="522000" cy="2486160"/>
                <a:chOff x="7713720" y="1599840"/>
                <a:chExt cx="522000" cy="2486160"/>
              </a:xfrm>
            </p:grpSpPr>
            <p:sp>
              <p:nvSpPr>
                <p:cNvPr id="453" name="TextBox 32"/>
                <p:cNvSpPr/>
                <p:nvPr/>
              </p:nvSpPr>
              <p:spPr>
                <a:xfrm>
                  <a:off x="7713720" y="1599840"/>
                  <a:ext cx="52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Zapf Dingbats"/>
                      <a:ea typeface="Zapf Dingbats"/>
                    </a:rPr>
                    <a:t>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TextBox 38"/>
                <p:cNvSpPr/>
                <p:nvPr/>
              </p:nvSpPr>
              <p:spPr>
                <a:xfrm>
                  <a:off x="7713720" y="2717280"/>
                  <a:ext cx="52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Zapf Dingbats"/>
                      <a:ea typeface="Zapf Dingbats"/>
                    </a:rPr>
                    <a:t>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TextBox 41"/>
                <p:cNvSpPr/>
                <p:nvPr/>
              </p:nvSpPr>
              <p:spPr>
                <a:xfrm>
                  <a:off x="7713720" y="3504600"/>
                  <a:ext cx="522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Zapf Dingbats"/>
                      <a:ea typeface="Zapf Dingbats"/>
                    </a:rPr>
                    <a:t>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56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5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71280" y="2643120"/>
            <a:ext cx="28576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59" name="Picture 2" descr=""/>
          <p:cNvPicPr/>
          <p:nvPr/>
        </p:nvPicPr>
        <p:blipFill>
          <a:blip r:embed="rId2"/>
          <a:stretch/>
        </p:blipFill>
        <p:spPr>
          <a:xfrm>
            <a:off x="3143160" y="2643120"/>
            <a:ext cx="28576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0" name="Picture 5" descr=""/>
          <p:cNvPicPr/>
          <p:nvPr/>
        </p:nvPicPr>
        <p:blipFill>
          <a:blip r:embed="rId3"/>
          <a:stretch/>
        </p:blipFill>
        <p:spPr>
          <a:xfrm>
            <a:off x="6215040" y="2643120"/>
            <a:ext cx="2857680" cy="285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1" name="TextBox 4"/>
          <p:cNvSpPr/>
          <p:nvPr/>
        </p:nvSpPr>
        <p:spPr>
          <a:xfrm>
            <a:off x="408600" y="260280"/>
            <a:ext cx="439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finement of Aurora kin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target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2338200" y="1414440"/>
            <a:ext cx="451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ccepted target sequ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RK]-X-[ST]-[ILV] (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. serevisia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KN]-R-X-[ST]-[ILVM]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(human Aurora-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791640" y="578628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7"/>
          <p:cNvSpPr/>
          <p:nvPr/>
        </p:nvSpPr>
        <p:spPr>
          <a:xfrm>
            <a:off x="3794760" y="577368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K-R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8"/>
          <p:cNvSpPr/>
          <p:nvPr/>
        </p:nvSpPr>
        <p:spPr>
          <a:xfrm>
            <a:off x="7006680" y="571500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4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6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figure 3-64"/>
          <p:cNvPicPr/>
          <p:nvPr/>
        </p:nvPicPr>
        <p:blipFill>
          <a:blip r:embed="rId1"/>
          <a:stretch/>
        </p:blipFill>
        <p:spPr>
          <a:xfrm>
            <a:off x="539640" y="1784520"/>
            <a:ext cx="3036960" cy="43812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3-64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420120" y="357120"/>
            <a:ext cx="56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ost (if not all) proteins are 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945960" y="2786040"/>
            <a:ext cx="5100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gulatory modifications are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dynam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kinase/phosphat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cetyltransferase/deacety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ubiquitin ligase/deubiquinating enzy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glyosyltransferase/deglycosid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A536-2E2F-4063-8CCA-5BC71A4FC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2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" descr="Koch_Fig3.tif"/>
          <p:cNvPicPr/>
          <p:nvPr/>
        </p:nvPicPr>
        <p:blipFill>
          <a:blip r:embed="rId1"/>
          <a:stretch/>
        </p:blipFill>
        <p:spPr>
          <a:xfrm>
            <a:off x="2050920" y="870120"/>
            <a:ext cx="4692960" cy="594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9" name="Rectangle 2"/>
          <p:cNvSpPr/>
          <p:nvPr/>
        </p:nvSpPr>
        <p:spPr>
          <a:xfrm>
            <a:off x="2050920" y="907920"/>
            <a:ext cx="7207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"/>
          <p:cNvSpPr/>
          <p:nvPr/>
        </p:nvSpPr>
        <p:spPr>
          <a:xfrm>
            <a:off x="415800" y="457200"/>
            <a:ext cx="64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ovel Aurora kinase substrates in </a:t>
            </a:r>
            <a:r>
              <a:rPr b="0" i="1" lang="de-DE" sz="2800" spc="-1" strike="noStrike">
                <a:solidFill>
                  <a:srgbClr val="000000"/>
                </a:solidFill>
                <a:latin typeface="Calibri"/>
              </a:rPr>
              <a:t>S. pom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47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Oval 1"/>
          <p:cNvSpPr/>
          <p:nvPr/>
        </p:nvSpPr>
        <p:spPr>
          <a:xfrm>
            <a:off x="1308240" y="1523880"/>
            <a:ext cx="5359320" cy="4419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chromosome.psd"/>
          <p:cNvPicPr/>
          <p:nvPr/>
        </p:nvPicPr>
        <p:blipFill>
          <a:blip r:embed="rId2"/>
          <a:stretch/>
        </p:blipFill>
        <p:spPr>
          <a:xfrm rot="829800">
            <a:off x="2714760" y="1828800"/>
            <a:ext cx="2619360" cy="3811680"/>
          </a:xfrm>
          <a:prstGeom prst="rect">
            <a:avLst/>
          </a:prstGeom>
          <a:ln w="0">
            <a:noFill/>
          </a:ln>
        </p:spPr>
      </p:pic>
      <p:sp>
        <p:nvSpPr>
          <p:cNvPr id="475" name="Oval 3"/>
          <p:cNvSpPr/>
          <p:nvPr/>
        </p:nvSpPr>
        <p:spPr>
          <a:xfrm rot="21119400">
            <a:off x="3682800" y="2912760"/>
            <a:ext cx="525240" cy="210960"/>
          </a:xfrm>
          <a:prstGeom prst="ellipse">
            <a:avLst/>
          </a:prstGeom>
          <a:solidFill>
            <a:srgbClr val="be000e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Lucida Sans"/>
                <a:ea typeface="Lucida Sans"/>
              </a:rPr>
              <a:t>Auro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4"/>
          <p:cNvSpPr/>
          <p:nvPr/>
        </p:nvSpPr>
        <p:spPr>
          <a:xfrm flipV="1">
            <a:off x="4125960" y="2471400"/>
            <a:ext cx="2063880" cy="43956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5"/>
          <p:cNvSpPr/>
          <p:nvPr/>
        </p:nvSpPr>
        <p:spPr>
          <a:xfrm>
            <a:off x="4070520" y="22604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6"/>
          <p:cNvSpPr/>
          <p:nvPr/>
        </p:nvSpPr>
        <p:spPr>
          <a:xfrm>
            <a:off x="3448080" y="23623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7"/>
          <p:cNvSpPr/>
          <p:nvPr/>
        </p:nvSpPr>
        <p:spPr>
          <a:xfrm>
            <a:off x="4309920" y="3446640"/>
            <a:ext cx="17316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8"/>
          <p:cNvSpPr/>
          <p:nvPr/>
        </p:nvSpPr>
        <p:spPr>
          <a:xfrm>
            <a:off x="3611520" y="378936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9"/>
          <p:cNvSpPr/>
          <p:nvPr/>
        </p:nvSpPr>
        <p:spPr>
          <a:xfrm>
            <a:off x="3746520" y="437364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0"/>
          <p:cNvSpPr/>
          <p:nvPr/>
        </p:nvSpPr>
        <p:spPr>
          <a:xfrm>
            <a:off x="3657600" y="49831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Curved Down Arrow 11"/>
          <p:cNvSpPr/>
          <p:nvPr/>
        </p:nvSpPr>
        <p:spPr>
          <a:xfrm rot="21275400">
            <a:off x="3920760" y="2693880"/>
            <a:ext cx="274680" cy="125640"/>
          </a:xfrm>
          <a:custGeom>
            <a:avLst/>
            <a:gdLst>
              <a:gd name="textAreaLeft" fmla="*/ 56880 w 274680"/>
              <a:gd name="textAreaRight" fmla="*/ 202320 w 274680"/>
              <a:gd name="textAreaTop" fmla="*/ 16560 h 125640"/>
              <a:gd name="textAreaBottom" fmla="*/ 109080 h 12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1" hR="21600" stAng="10800000" swAng="5400000"/>
                <a:lnTo>
                  <a:pt x="11417" y="0"/>
                </a:lnTo>
                <a:arcTo wR="8951" hR="21600" stAng="-5400000" swAng="3484367"/>
                <a:lnTo>
                  <a:pt x="21316" y="16200"/>
                </a:lnTo>
                <a:lnTo>
                  <a:pt x="19134" y="21600"/>
                </a:lnTo>
                <a:lnTo>
                  <a:pt x="16384" y="16200"/>
                </a:lnTo>
                <a:lnTo>
                  <a:pt x="17617" y="16200"/>
                </a:lnTo>
                <a:arcTo wR="8951" hR="21600" stAng="-1915633" swAng="-3286459"/>
                <a:lnTo>
                  <a:pt x="10184" y="206"/>
                </a:lnTo>
                <a:arcTo wR="8951" hR="21600" stAng="-5597908" swAng="-5202092"/>
                <a:close/>
              </a:path>
              <a:path fill="darkenLess" w="21600" h="21600">
                <a:moveTo>
                  <a:pt x="0" y="21600"/>
                </a:moveTo>
                <a:arcTo wR="8951" hR="21600" stAng="10800000" swAng="5400000"/>
                <a:lnTo>
                  <a:pt x="8951" y="0"/>
                </a:lnTo>
                <a:arcTo wR="8951" hR="21600" stAng="-5400000" swAng="197908"/>
                <a:lnTo>
                  <a:pt x="10184" y="206"/>
                </a:lnTo>
                <a:arcTo wR="8951" hR="21600" stAng="-5597908" swAng="-5202092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Curved Down Arrow 12"/>
          <p:cNvSpPr/>
          <p:nvPr/>
        </p:nvSpPr>
        <p:spPr>
          <a:xfrm flipH="1" rot="21276000">
            <a:off x="3539160" y="2752560"/>
            <a:ext cx="252360" cy="127080"/>
          </a:xfrm>
          <a:custGeom>
            <a:avLst/>
            <a:gdLst>
              <a:gd name="textAreaLeft" fmla="*/ 51120 w 252360"/>
              <a:gd name="textAreaRight" fmla="*/ 185400 w 252360"/>
              <a:gd name="textAreaTop" fmla="*/ 16920 h 127080"/>
              <a:gd name="textAreaBottom" fmla="*/ 110160 h 127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63" hR="21600" stAng="10800000" swAng="5400000"/>
                <a:lnTo>
                  <a:pt x="11479" y="0"/>
                </a:lnTo>
                <a:arcTo wR="8763" hR="21600" stAng="-5400000" swAng="3451460"/>
                <a:lnTo>
                  <a:pt x="21322" y="16200"/>
                </a:lnTo>
                <a:lnTo>
                  <a:pt x="18883" y="21600"/>
                </a:lnTo>
                <a:lnTo>
                  <a:pt x="15888" y="16200"/>
                </a:lnTo>
                <a:lnTo>
                  <a:pt x="17247" y="16200"/>
                </a:lnTo>
                <a:arcTo wR="8763" hR="21600" stAng="-1948540" swAng="-3232979"/>
                <a:lnTo>
                  <a:pt x="10121" y="261"/>
                </a:lnTo>
                <a:arcTo wR="8763" hR="21600" stAng="-5618481" swAng="-5181519"/>
                <a:close/>
              </a:path>
              <a:path fill="darkenLess" w="21600" h="21600">
                <a:moveTo>
                  <a:pt x="0" y="21600"/>
                </a:moveTo>
                <a:arcTo wR="8763" hR="21600" stAng="10800000" swAng="5400000"/>
                <a:lnTo>
                  <a:pt x="8763" y="0"/>
                </a:lnTo>
                <a:arcTo wR="8763" hR="21600" stAng="-5400000" swAng="218481"/>
                <a:lnTo>
                  <a:pt x="10121" y="261"/>
                </a:lnTo>
                <a:arcTo wR="8763" hR="21600" stAng="-5618481" swAng="-5181519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4305240" y="392436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432320" y="4446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15"/>
          <p:cNvSpPr/>
          <p:nvPr/>
        </p:nvSpPr>
        <p:spPr>
          <a:xfrm flipV="1">
            <a:off x="4168800" y="2531880"/>
            <a:ext cx="2062080" cy="43812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16"/>
          <p:cNvSpPr/>
          <p:nvPr/>
        </p:nvSpPr>
        <p:spPr>
          <a:xfrm flipV="1">
            <a:off x="1328760" y="3048120"/>
            <a:ext cx="2311200" cy="47448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17"/>
          <p:cNvSpPr/>
          <p:nvPr/>
        </p:nvSpPr>
        <p:spPr>
          <a:xfrm flipV="1">
            <a:off x="1320840" y="3131640"/>
            <a:ext cx="2311200" cy="474840"/>
          </a:xfrm>
          <a:prstGeom prst="line">
            <a:avLst/>
          </a:prstGeom>
          <a:ln w="38160">
            <a:solidFill>
              <a:srgbClr val="265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3711600" y="335268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3559320" y="3005280"/>
            <a:ext cx="172800" cy="17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4133880" y="2844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3440160" y="293832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22"/>
          <p:cNvSpPr/>
          <p:nvPr/>
        </p:nvSpPr>
        <p:spPr>
          <a:xfrm>
            <a:off x="4253040" y="2921040"/>
            <a:ext cx="1728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ight Arrow Callout 23"/>
          <p:cNvSpPr/>
          <p:nvPr/>
        </p:nvSpPr>
        <p:spPr>
          <a:xfrm>
            <a:off x="223920" y="2886120"/>
            <a:ext cx="3141720" cy="533520"/>
          </a:xfrm>
          <a:prstGeom prst="rightArrowCallout">
            <a:avLst>
              <a:gd name="adj1" fmla="val 34133"/>
              <a:gd name="adj2" fmla="val 37699"/>
              <a:gd name="adj3" fmla="val 26581"/>
              <a:gd name="adj4" fmla="val 81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Lucida Sans"/>
              </a:rPr>
              <a:t>Regulation of kinetochore-microtubule attach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Arrow Callout 24"/>
          <p:cNvSpPr/>
          <p:nvPr/>
        </p:nvSpPr>
        <p:spPr>
          <a:xfrm>
            <a:off x="584280" y="3571920"/>
            <a:ext cx="2768400" cy="533520"/>
          </a:xfrm>
          <a:prstGeom prst="rightArrowCallout">
            <a:avLst>
              <a:gd name="adj1" fmla="val 34133"/>
              <a:gd name="adj2" fmla="val 37699"/>
              <a:gd name="adj3" fmla="val 26569"/>
              <a:gd name="adj4" fmla="val 765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  <a:ea typeface="Lucida Sans"/>
              </a:rPr>
              <a:t>Compaction of chromos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25"/>
          <p:cNvSpPr/>
          <p:nvPr/>
        </p:nvSpPr>
        <p:spPr>
          <a:xfrm>
            <a:off x="2867040" y="4995720"/>
            <a:ext cx="1731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26"/>
          <p:cNvSpPr/>
          <p:nvPr/>
        </p:nvSpPr>
        <p:spPr>
          <a:xfrm>
            <a:off x="4591080" y="1782720"/>
            <a:ext cx="17460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eft Arrow Callout 27"/>
          <p:cNvSpPr/>
          <p:nvPr/>
        </p:nvSpPr>
        <p:spPr>
          <a:xfrm>
            <a:off x="4629240" y="2889360"/>
            <a:ext cx="3141720" cy="533160"/>
          </a:xfrm>
          <a:prstGeom prst="leftArrowCallout">
            <a:avLst>
              <a:gd name="adj1" fmla="val 34531"/>
              <a:gd name="adj2" fmla="val 36111"/>
              <a:gd name="adj3" fmla="val 25016"/>
              <a:gd name="adj4" fmla="val 81697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Mod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DNA damage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eft Arrow Callout 28"/>
          <p:cNvSpPr/>
          <p:nvPr/>
        </p:nvSpPr>
        <p:spPr>
          <a:xfrm>
            <a:off x="4483080" y="2151000"/>
            <a:ext cx="3141720" cy="533520"/>
          </a:xfrm>
          <a:prstGeom prst="leftArrowCallout">
            <a:avLst>
              <a:gd name="adj1" fmla="val 34531"/>
              <a:gd name="adj2" fmla="val 36111"/>
              <a:gd name="adj3" fmla="val 25000"/>
              <a:gd name="adj4" fmla="val 81697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‘</a:t>
            </a: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Clearing’ of chromati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facilitating se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eft Arrow Callout 29"/>
          <p:cNvSpPr/>
          <p:nvPr/>
        </p:nvSpPr>
        <p:spPr>
          <a:xfrm>
            <a:off x="4894200" y="3625920"/>
            <a:ext cx="3665520" cy="533160"/>
          </a:xfrm>
          <a:prstGeom prst="leftArrowCallout">
            <a:avLst>
              <a:gd name="adj1" fmla="val 34531"/>
              <a:gd name="adj2" fmla="val 36111"/>
              <a:gd name="adj3" fmla="val 25018"/>
              <a:gd name="adj4" fmla="val 85161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Inheritance of heterochromatin, preserving differentiated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eft Arrow Callout 30"/>
          <p:cNvSpPr/>
          <p:nvPr/>
        </p:nvSpPr>
        <p:spPr>
          <a:xfrm>
            <a:off x="5002200" y="4363920"/>
            <a:ext cx="3141720" cy="533520"/>
          </a:xfrm>
          <a:prstGeom prst="leftArrowCallout">
            <a:avLst>
              <a:gd name="adj1" fmla="val 34531"/>
              <a:gd name="adj2" fmla="val 36111"/>
              <a:gd name="adj3" fmla="val 25000"/>
              <a:gd name="adj4" fmla="val 81697"/>
            </a:avLst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Setting D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Lucida Sans"/>
                <a:ea typeface="Lucida Sans"/>
              </a:rPr>
              <a:t>replication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val 31"/>
          <p:cNvSpPr/>
          <p:nvPr/>
        </p:nvSpPr>
        <p:spPr>
          <a:xfrm>
            <a:off x="2787480" y="2425680"/>
            <a:ext cx="174960" cy="1778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2"/>
          <p:cNvSpPr/>
          <p:nvPr/>
        </p:nvSpPr>
        <p:spPr>
          <a:xfrm>
            <a:off x="571680" y="4309920"/>
            <a:ext cx="2108160" cy="5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0" rIns="90000" tIns="108000" bIns="108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indle assemb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eck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33"/>
          <p:cNvSpPr/>
          <p:nvPr/>
        </p:nvSpPr>
        <p:spPr>
          <a:xfrm>
            <a:off x="457560" y="457200"/>
            <a:ext cx="48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ovel functions of Aurora ki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0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1"/>
          <p:cNvSpPr/>
          <p:nvPr/>
        </p:nvSpPr>
        <p:spPr>
          <a:xfrm>
            <a:off x="583200" y="2205000"/>
            <a:ext cx="79059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ample 2: Use of dominant-negative kinase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ction of PKD targets in HEK 293 cells (with A. Hausser, Uni Stuttg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1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63"/>
          <p:cNvSpPr/>
          <p:nvPr/>
        </p:nvSpPr>
        <p:spPr>
          <a:xfrm>
            <a:off x="419040" y="384120"/>
            <a:ext cx="59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PKD1 substrate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5" descr="PKD_intracellular_distribution.jpg"/>
          <p:cNvPicPr/>
          <p:nvPr/>
        </p:nvPicPr>
        <p:blipFill>
          <a:blip r:embed="rId1"/>
          <a:stretch/>
        </p:blipFill>
        <p:spPr>
          <a:xfrm>
            <a:off x="2484360" y="3573360"/>
            <a:ext cx="3959280" cy="2516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3" name="TextBox 4"/>
          <p:cNvSpPr/>
          <p:nvPr/>
        </p:nvSpPr>
        <p:spPr>
          <a:xfrm>
            <a:off x="1613880" y="6227640"/>
            <a:ext cx="61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 and Rubin. 2011. EMBO Reports 12(8): 785-79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15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5"/>
          <p:cNvSpPr/>
          <p:nvPr/>
        </p:nvSpPr>
        <p:spPr>
          <a:xfrm>
            <a:off x="478800" y="1341360"/>
            <a:ext cx="822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KD1: cytosolic serine/threonine-protein kin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rts DAG signals into prolonged physiological effects downstream of PK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gulation of MAPK8/JNK1 and Ras signa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lgi membrane integrity and traffi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survival through NF-kappa-B acti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differentiation by mediating HDAC7 nuclear ex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ll proliferation via MAPK1/3 (ERK1/2) sig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63"/>
          <p:cNvSpPr/>
          <p:nvPr/>
        </p:nvSpPr>
        <p:spPr>
          <a:xfrm>
            <a:off x="413280" y="384120"/>
            <a:ext cx="57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etection of PKD substrate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6" descr="PKD_Workflow.png"/>
          <p:cNvPicPr/>
          <p:nvPr/>
        </p:nvPicPr>
        <p:blipFill>
          <a:blip r:embed="rId1"/>
          <a:stretch/>
        </p:blipFill>
        <p:spPr>
          <a:xfrm>
            <a:off x="3132000" y="1392120"/>
            <a:ext cx="2793960" cy="5276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19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2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429080" cy="44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429440" cy="442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23" name="Picture 5" descr=""/>
          <p:cNvPicPr/>
          <p:nvPr/>
        </p:nvPicPr>
        <p:blipFill>
          <a:blip r:embed="rId3"/>
          <a:stretch/>
        </p:blipFill>
        <p:spPr>
          <a:xfrm>
            <a:off x="2195640" y="6488280"/>
            <a:ext cx="371520" cy="257040"/>
          </a:xfrm>
          <a:prstGeom prst="rect">
            <a:avLst/>
          </a:prstGeom>
          <a:ln w="0">
            <a:noFill/>
          </a:ln>
        </p:spPr>
      </p:pic>
      <p:sp>
        <p:nvSpPr>
          <p:cNvPr id="524" name="Textfeld 7"/>
          <p:cNvSpPr/>
          <p:nvPr/>
        </p:nvSpPr>
        <p:spPr>
          <a:xfrm>
            <a:off x="2308320" y="6453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KD motif among significantly regulated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5"/>
          <p:cNvSpPr/>
          <p:nvPr/>
        </p:nvSpPr>
        <p:spPr>
          <a:xfrm>
            <a:off x="428760" y="384120"/>
            <a:ext cx="59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PKD-dependent phosphorylation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4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27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1619280" y="1351080"/>
            <a:ext cx="5761080" cy="531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29" name="TextBox 2"/>
          <p:cNvSpPr/>
          <p:nvPr/>
        </p:nvSpPr>
        <p:spPr>
          <a:xfrm>
            <a:off x="405000" y="428760"/>
            <a:ext cx="23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31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3"/>
          <p:cNvSpPr/>
          <p:nvPr/>
        </p:nvSpPr>
        <p:spPr>
          <a:xfrm>
            <a:off x="1042920" y="1484280"/>
            <a:ext cx="6985080" cy="468144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rcRect l="31035" t="0" r="29375" b="0"/>
          <a:stretch/>
        </p:blipFill>
        <p:spPr>
          <a:xfrm>
            <a:off x="1187280" y="1916280"/>
            <a:ext cx="2819520" cy="3757320"/>
          </a:xfrm>
          <a:prstGeom prst="rect">
            <a:avLst/>
          </a:prstGeom>
          <a:ln w="0">
            <a:noFill/>
          </a:ln>
        </p:spPr>
      </p:pic>
      <p:sp>
        <p:nvSpPr>
          <p:cNvPr id="534" name="TextBox 8"/>
          <p:cNvSpPr/>
          <p:nvPr/>
        </p:nvSpPr>
        <p:spPr>
          <a:xfrm>
            <a:off x="1762200" y="2236680"/>
            <a:ext cx="158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KDca/PKDkd]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oc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2"/>
          <a:srcRect l="33374" t="0" r="32451" b="0"/>
          <a:stretch/>
        </p:blipFill>
        <p:spPr>
          <a:xfrm>
            <a:off x="4859280" y="1700280"/>
            <a:ext cx="2952720" cy="417204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1"/>
          <p:cNvSpPr/>
          <p:nvPr/>
        </p:nvSpPr>
        <p:spPr>
          <a:xfrm>
            <a:off x="5683320" y="2216160"/>
            <a:ext cx="18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arental/PKDkd]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oc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63"/>
          <p:cNvSpPr/>
          <p:nvPr/>
        </p:nvSpPr>
        <p:spPr>
          <a:xfrm>
            <a:off x="413280" y="312840"/>
            <a:ext cx="496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inase of interest must be a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uring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3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1042920" y="1484280"/>
            <a:ext cx="6985080" cy="468144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"/>
          <p:cNvPicPr/>
          <p:nvPr/>
        </p:nvPicPr>
        <p:blipFill>
          <a:blip r:embed="rId1"/>
          <a:srcRect l="14701" t="0" r="15553" b="0"/>
          <a:stretch/>
        </p:blipFill>
        <p:spPr>
          <a:xfrm>
            <a:off x="1387440" y="2349360"/>
            <a:ext cx="3113280" cy="3156120"/>
          </a:xfrm>
          <a:prstGeom prst="rect">
            <a:avLst/>
          </a:prstGeom>
          <a:ln w="0">
            <a:noFill/>
          </a:ln>
        </p:spPr>
      </p:pic>
      <p:sp>
        <p:nvSpPr>
          <p:cNvPr id="542" name="TextBox 2"/>
          <p:cNvSpPr/>
          <p:nvPr/>
        </p:nvSpPr>
        <p:spPr>
          <a:xfrm>
            <a:off x="2293920" y="2436840"/>
            <a:ext cx="158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KDca/PKDkd]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oc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6" descr=""/>
          <p:cNvPicPr/>
          <p:nvPr/>
        </p:nvPicPr>
        <p:blipFill>
          <a:blip r:embed="rId2"/>
          <a:srcRect l="14600" t="0" r="17276" b="0"/>
          <a:stretch/>
        </p:blipFill>
        <p:spPr>
          <a:xfrm>
            <a:off x="4627440" y="2360520"/>
            <a:ext cx="3040200" cy="3156120"/>
          </a:xfrm>
          <a:prstGeom prst="rect">
            <a:avLst/>
          </a:prstGeom>
          <a:ln w="0">
            <a:noFill/>
          </a:ln>
        </p:spPr>
      </p:pic>
      <p:sp>
        <p:nvSpPr>
          <p:cNvPr id="544" name="TextBox 4"/>
          <p:cNvSpPr/>
          <p:nvPr/>
        </p:nvSpPr>
        <p:spPr>
          <a:xfrm>
            <a:off x="5553000" y="2436840"/>
            <a:ext cx="168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parental/PKDkd]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oc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"/>
          <p:cNvSpPr/>
          <p:nvPr/>
        </p:nvSpPr>
        <p:spPr>
          <a:xfrm>
            <a:off x="344880" y="428760"/>
            <a:ext cx="66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mportance of normalization by protein rat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Straight Arrow Connector 7"/>
          <p:cNvCxnSpPr/>
          <p:nvPr/>
        </p:nvCxnSpPr>
        <p:spPr>
          <a:xfrm flipH="1" flipV="1">
            <a:off x="6516360" y="4508280"/>
            <a:ext cx="288000" cy="289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TextBox 10"/>
          <p:cNvSpPr/>
          <p:nvPr/>
        </p:nvSpPr>
        <p:spPr>
          <a:xfrm>
            <a:off x="5595120" y="472428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verexpressed PKDk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4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"/>
          <p:cNvPicPr/>
          <p:nvPr/>
        </p:nvPicPr>
        <p:blipFill>
          <a:blip r:embed="rId1"/>
          <a:stretch/>
        </p:blipFill>
        <p:spPr>
          <a:xfrm>
            <a:off x="468360" y="1465200"/>
            <a:ext cx="8253360" cy="2540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51" name="TextBox 2"/>
          <p:cNvSpPr/>
          <p:nvPr/>
        </p:nvSpPr>
        <p:spPr>
          <a:xfrm>
            <a:off x="417960" y="404640"/>
            <a:ext cx="530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richment of PKD target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"/>
          <p:cNvPicPr/>
          <p:nvPr/>
        </p:nvPicPr>
        <p:blipFill>
          <a:blip r:embed="rId2"/>
          <a:stretch/>
        </p:blipFill>
        <p:spPr>
          <a:xfrm>
            <a:off x="468360" y="4705200"/>
            <a:ext cx="8259840" cy="16765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553" name="TextBox 5"/>
          <p:cNvSpPr/>
          <p:nvPr/>
        </p:nvSpPr>
        <p:spPr>
          <a:xfrm>
            <a:off x="2718720" y="4149720"/>
            <a:ext cx="36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Enrichment of G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55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S-based proteo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2894040" y="1523880"/>
            <a:ext cx="3495600" cy="44960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288880" y="6286680"/>
            <a:ext cx="462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ebersold R and Mann M.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003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atur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422</a:t>
            </a: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198-2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98AD-C2D0-4F0F-8023-DD8E0AF30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26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4214880" cy="421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4714920" y="2000160"/>
            <a:ext cx="4214880" cy="421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58" name="TextBox 4"/>
          <p:cNvSpPr/>
          <p:nvPr/>
        </p:nvSpPr>
        <p:spPr>
          <a:xfrm>
            <a:off x="412560" y="428760"/>
            <a:ext cx="53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finement of PKD target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"/>
          <p:cNvSpPr/>
          <p:nvPr/>
        </p:nvSpPr>
        <p:spPr>
          <a:xfrm>
            <a:off x="2491200" y="1260360"/>
            <a:ext cx="38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ccepted target sequ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LVI]-X-[RK]-X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6"/>
          <p:cNvSpPr/>
          <p:nvPr/>
        </p:nvSpPr>
        <p:spPr>
          <a:xfrm>
            <a:off x="1105200" y="635796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LV]-K-K-K-L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6104880" y="635796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-X-K-X-X-[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23"/>
          <p:cNvGrpSpPr/>
          <p:nvPr/>
        </p:nvGrpSpPr>
        <p:grpSpPr>
          <a:xfrm>
            <a:off x="2643120" y="4643280"/>
            <a:ext cx="5072040" cy="2213640"/>
            <a:chOff x="2643120" y="4643280"/>
            <a:chExt cx="5072040" cy="2213640"/>
          </a:xfrm>
        </p:grpSpPr>
        <p:sp>
          <p:nvSpPr>
            <p:cNvPr id="563" name="Oval 8"/>
            <p:cNvSpPr/>
            <p:nvPr/>
          </p:nvSpPr>
          <p:spPr>
            <a:xfrm>
              <a:off x="2643120" y="4643280"/>
              <a:ext cx="571320" cy="428400"/>
            </a:xfrm>
            <a:prstGeom prst="ellips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7143840" y="4643280"/>
              <a:ext cx="571320" cy="428400"/>
            </a:xfrm>
            <a:prstGeom prst="ellipse">
              <a:avLst/>
            </a:prstGeom>
            <a:noFill/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Straight Arrow Connector 11"/>
            <p:cNvCxnSpPr/>
            <p:nvPr/>
          </p:nvCxnSpPr>
          <p:spPr>
            <a:xfrm flipH="1">
              <a:off x="4785840" y="4999320"/>
              <a:ext cx="2442240" cy="1429560"/>
            </a:xfrm>
            <a:prstGeom prst="straightConnector1">
              <a:avLst/>
            </a:prstGeom>
            <a:ln w="9360">
              <a:solidFill>
                <a:srgbClr val="92d050"/>
              </a:solidFill>
              <a:miter/>
              <a:tailEnd len="med" type="arrow" w="med"/>
            </a:ln>
          </p:spPr>
        </p:cxnSp>
        <p:cxnSp>
          <p:nvCxnSpPr>
            <p:cNvPr id="566" name="Straight Arrow Connector 13"/>
            <p:cNvCxnSpPr>
              <a:stCxn id="563" idx="5"/>
            </p:cNvCxnSpPr>
            <p:nvPr/>
          </p:nvCxnSpPr>
          <p:spPr>
            <a:xfrm>
              <a:off x="3129120" y="5007960"/>
              <a:ext cx="942120" cy="1421640"/>
            </a:xfrm>
            <a:prstGeom prst="straightConnector1">
              <a:avLst/>
            </a:prstGeom>
            <a:ln w="9360">
              <a:solidFill>
                <a:srgbClr val="92d050"/>
              </a:solidFill>
              <a:miter/>
              <a:tailEnd len="med" type="arrow" w="med"/>
            </a:ln>
          </p:spPr>
        </p:cxnSp>
        <p:sp>
          <p:nvSpPr>
            <p:cNvPr id="567" name="TextBox 21"/>
            <p:cNvSpPr/>
            <p:nvPr/>
          </p:nvSpPr>
          <p:spPr>
            <a:xfrm>
              <a:off x="3511800" y="6488640"/>
              <a:ext cx="187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pletion of Pro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8" name="Picture 2" descr=""/>
          <p:cNvPicPr/>
          <p:nvPr/>
        </p:nvPicPr>
        <p:blipFill>
          <a:blip r:embed="rId3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569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"/>
          <p:cNvSpPr/>
          <p:nvPr/>
        </p:nvSpPr>
        <p:spPr>
          <a:xfrm>
            <a:off x="971640" y="40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Acknowledgemen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1000080" y="1571760"/>
            <a:ext cx="32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teome Center Tueb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sten K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rita Franz-Wach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ke W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4"/>
          <p:cNvSpPr/>
          <p:nvPr/>
        </p:nvSpPr>
        <p:spPr>
          <a:xfrm>
            <a:off x="5339520" y="1571760"/>
            <a:ext cx="346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iversity of Stuttg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gelika Hau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ephan Eis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riedrich Miescher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lke H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re K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" descr="PRIME-XS_Logo.jpg"/>
          <p:cNvPicPr/>
          <p:nvPr/>
        </p:nvPicPr>
        <p:blipFill>
          <a:blip r:embed="rId1"/>
          <a:stretch/>
        </p:blipFill>
        <p:spPr>
          <a:xfrm>
            <a:off x="3397320" y="4933800"/>
            <a:ext cx="1981080" cy="1017720"/>
          </a:xfrm>
          <a:prstGeom prst="rect">
            <a:avLst/>
          </a:prstGeom>
          <a:ln w="3240">
            <a:solidFill>
              <a:srgbClr val="00b0f0"/>
            </a:solidFill>
            <a:miter/>
          </a:ln>
        </p:spPr>
      </p:pic>
      <p:pic>
        <p:nvPicPr>
          <p:cNvPr id="574" name="Picture 2" descr="landeswappen.gif"/>
          <p:cNvPicPr/>
          <p:nvPr/>
        </p:nvPicPr>
        <p:blipFill>
          <a:blip r:embed="rId2"/>
          <a:stretch/>
        </p:blipFill>
        <p:spPr>
          <a:xfrm>
            <a:off x="2386080" y="4292640"/>
            <a:ext cx="4130640" cy="365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75" name="Picture 3" descr="dfg_logo.gif"/>
          <p:cNvPicPr/>
          <p:nvPr/>
        </p:nvPicPr>
        <p:blipFill>
          <a:blip r:embed="rId3"/>
          <a:stretch/>
        </p:blipFill>
        <p:spPr>
          <a:xfrm>
            <a:off x="3244680" y="6229440"/>
            <a:ext cx="2381400" cy="295200"/>
          </a:xfrm>
          <a:prstGeom prst="rect">
            <a:avLst/>
          </a:prstGeom>
          <a:ln w="3240">
            <a:solidFill>
              <a:srgbClr val="00b0f0"/>
            </a:solidFill>
            <a:miter/>
          </a:ln>
        </p:spPr>
      </p:pic>
      <p:sp>
        <p:nvSpPr>
          <p:cNvPr id="576" name="TextBox 5"/>
          <p:cNvSpPr/>
          <p:nvPr/>
        </p:nvSpPr>
        <p:spPr>
          <a:xfrm>
            <a:off x="3830400" y="37162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64A-427B-4C7A-9780-482100A681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657360" y="2103480"/>
            <a:ext cx="7875360" cy="26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TextBox 2"/>
          <p:cNvSpPr/>
          <p:nvPr/>
        </p:nvSpPr>
        <p:spPr>
          <a:xfrm>
            <a:off x="2007360" y="4819680"/>
            <a:ext cx="52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houdhary and Mann. 2010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Nature Rev Mol Cell Bio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11:4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60520" y="357120"/>
            <a:ext cx="52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TMs analyzed in large scale by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81AE-4BE3-480D-B9CC-842795447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32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36000" cy="518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Box 2"/>
          <p:cNvSpPr/>
          <p:nvPr/>
        </p:nvSpPr>
        <p:spPr>
          <a:xfrm>
            <a:off x="2079000" y="6473880"/>
            <a:ext cx="52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houdhary and Mann. 2010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Nature Rev Mol Cell Biol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. 11:4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47680" y="35712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argest phosphoproteomes reported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5FCF-040F-441D-808C-947FDD947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4"/>
          <p:cNvSpPr/>
          <p:nvPr/>
        </p:nvSpPr>
        <p:spPr>
          <a:xfrm>
            <a:off x="395280" y="3571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Gel-free </a:t>
            </a: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phosphoproteomic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work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D:\Working\ROHIT1\AR\DECEMBER\AR366-online\ANRV366-PA49-09\jpg\Olsen-f01-clr.jpg"/>
          <p:cNvPicPr/>
          <p:nvPr/>
        </p:nvPicPr>
        <p:blipFill>
          <a:blip r:embed="rId1"/>
          <a:stretch/>
        </p:blipFill>
        <p:spPr>
          <a:xfrm>
            <a:off x="3143160" y="1413000"/>
            <a:ext cx="2679840" cy="5375160"/>
          </a:xfrm>
          <a:prstGeom prst="rect">
            <a:avLst/>
          </a:prstGeom>
          <a:ln w="0">
            <a:noFill/>
          </a:ln>
        </p:spPr>
      </p:pic>
      <p:sp>
        <p:nvSpPr>
          <p:cNvPr id="140" name="Right Brace 4"/>
          <p:cNvSpPr/>
          <p:nvPr/>
        </p:nvSpPr>
        <p:spPr>
          <a:xfrm>
            <a:off x="6012000" y="3860640"/>
            <a:ext cx="288720" cy="914400"/>
          </a:xfrm>
          <a:custGeom>
            <a:avLst/>
            <a:gdLst>
              <a:gd name="textAreaLeft" fmla="*/ 0 w 288720"/>
              <a:gd name="textAreaRight" fmla="*/ 104040 w 288720"/>
              <a:gd name="textAreaTop" fmla="*/ 7200 h 914400"/>
              <a:gd name="textAreaBottom" fmla="*/ 9072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5"/>
                  <a:pt x="10800" y="569"/>
                </a:cubicBezTo>
                <a:lnTo>
                  <a:pt x="10800" y="10231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5"/>
                  <a:pt x="10800" y="11369"/>
                </a:cubicBezTo>
                <a:lnTo>
                  <a:pt x="10800" y="21031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6385680" y="38736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tibod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G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Y20, pY99, pY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D200-2E35-4B0D-A653-2425F730F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44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395280" y="26028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st stage of enrich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trong Cation Exchange (SCX) 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372040" y="6286680"/>
            <a:ext cx="43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Beausoleil et al. 2004.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PNAS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 101(33): 12130-12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853920" y="1557360"/>
            <a:ext cx="7463160" cy="44449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A8C2-F291-49EC-967A-F108DBE4C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50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64360" cy="4271760"/>
          </a:xfrm>
          <a:prstGeom prst="rect">
            <a:avLst/>
          </a:prstGeom>
          <a:ln w="0">
            <a:noFill/>
          </a:ln>
        </p:spPr>
      </p:pic>
      <p:sp>
        <p:nvSpPr>
          <p:cNvPr id="1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9797-4E62-41C3-8366-686471933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395280" y="260280"/>
            <a:ext cx="6286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st stage of enrich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Calibri"/>
              </a:rPr>
              <a:t>Strong Cation Exchange (SCX) chromat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6875640" y="260280"/>
            <a:ext cx="2114280" cy="693720"/>
          </a:xfrm>
          <a:prstGeom prst="rect">
            <a:avLst/>
          </a:prstGeom>
          <a:ln w="0">
            <a:noFill/>
          </a:ln>
        </p:spPr>
      </p:pic>
      <p:sp>
        <p:nvSpPr>
          <p:cNvPr id="155" name="Gerade Verbindung 5"/>
          <p:cNvSpPr/>
          <p:nvPr/>
        </p:nvSpPr>
        <p:spPr>
          <a:xfrm>
            <a:off x="468360" y="1268280"/>
            <a:ext cx="828036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16:03:28Z</dcterms:created>
  <dc:creator>Boris</dc:creator>
  <dc:description/>
  <dc:language>en-US</dc:language>
  <cp:lastModifiedBy>pct</cp:lastModifiedBy>
  <dcterms:modified xsi:type="dcterms:W3CDTF">2014-04-07T19:41:24Z</dcterms:modified>
  <cp:revision>237</cp:revision>
  <dc:subject/>
  <dc:title>Slide 1</dc:title>
</cp:coreProperties>
</file>